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673-8FB5-4ED6-8AB3-82C686F0B9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637D-2F55-41D7-BC10-E6BB20797C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2CC-3A77-4A8C-A631-7FE7A391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165-38F5-4949-B565-145E1B5C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059-493C-49A0-8E8F-464CF1C2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51B-5EB3-49FD-A4D2-2086A30E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C27-B470-46DC-8C35-FE1D893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EB9-E44D-4EE8-B12F-886FF00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C5C-E103-4FE6-9471-37E36F9F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520-518D-4E4E-9097-DAA2A6D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886-BCA4-40AE-BCB2-D21C5412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96A-DF86-4D65-A58E-5FC8AF6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4AA-B0DA-4190-B571-55192CFC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33E-73D0-4350-88A1-2CF8FFA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69DB-5209-4757-9C75-D102CC5658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862440" y="3486240"/>
            <a:ext cx="1714320" cy="426960"/>
          </a:xfrm>
          <a:custGeom>
            <a:avLst/>
            <a:gdLst/>
            <a:ahLst/>
            <a:rect l="l" t="t" r="r" b="b"/>
            <a:pathLst>
              <a:path w="1714500" h="426244">
                <a:moveTo>
                  <a:pt x="538162" y="219075"/>
                </a:moveTo>
                <a:lnTo>
                  <a:pt x="640556" y="202406"/>
                </a:lnTo>
                <a:lnTo>
                  <a:pt x="709612" y="185738"/>
                </a:lnTo>
                <a:lnTo>
                  <a:pt x="828675" y="159544"/>
                </a:lnTo>
                <a:lnTo>
                  <a:pt x="952500" y="133350"/>
                </a:lnTo>
                <a:lnTo>
                  <a:pt x="1126331" y="97631"/>
                </a:lnTo>
                <a:lnTo>
                  <a:pt x="1195387" y="78581"/>
                </a:lnTo>
                <a:lnTo>
                  <a:pt x="1281112" y="45244"/>
                </a:lnTo>
                <a:lnTo>
                  <a:pt x="1338262" y="21431"/>
                </a:lnTo>
                <a:lnTo>
                  <a:pt x="1385887" y="7144"/>
                </a:lnTo>
                <a:lnTo>
                  <a:pt x="1435893" y="0"/>
                </a:lnTo>
                <a:lnTo>
                  <a:pt x="1495425" y="0"/>
                </a:lnTo>
                <a:lnTo>
                  <a:pt x="1562100" y="4763"/>
                </a:lnTo>
                <a:lnTo>
                  <a:pt x="1600200" y="9525"/>
                </a:lnTo>
                <a:lnTo>
                  <a:pt x="1626393" y="14288"/>
                </a:lnTo>
                <a:lnTo>
                  <a:pt x="1650206" y="23813"/>
                </a:lnTo>
                <a:lnTo>
                  <a:pt x="1676400" y="38100"/>
                </a:lnTo>
                <a:lnTo>
                  <a:pt x="1697831" y="57150"/>
                </a:lnTo>
                <a:lnTo>
                  <a:pt x="1709737" y="76200"/>
                </a:lnTo>
                <a:lnTo>
                  <a:pt x="1714500" y="95250"/>
                </a:lnTo>
                <a:lnTo>
                  <a:pt x="1709737" y="111919"/>
                </a:lnTo>
                <a:lnTo>
                  <a:pt x="1690687" y="145256"/>
                </a:lnTo>
                <a:lnTo>
                  <a:pt x="1664493" y="169069"/>
                </a:lnTo>
                <a:lnTo>
                  <a:pt x="1640681" y="188119"/>
                </a:lnTo>
                <a:lnTo>
                  <a:pt x="1595437" y="200025"/>
                </a:lnTo>
                <a:lnTo>
                  <a:pt x="1447800" y="240506"/>
                </a:lnTo>
                <a:lnTo>
                  <a:pt x="1240631" y="283369"/>
                </a:lnTo>
                <a:lnTo>
                  <a:pt x="1000125" y="326231"/>
                </a:lnTo>
                <a:lnTo>
                  <a:pt x="892968" y="345281"/>
                </a:lnTo>
                <a:lnTo>
                  <a:pt x="664368" y="371475"/>
                </a:lnTo>
                <a:lnTo>
                  <a:pt x="466725" y="404813"/>
                </a:lnTo>
                <a:lnTo>
                  <a:pt x="350043" y="421481"/>
                </a:lnTo>
                <a:lnTo>
                  <a:pt x="311943" y="426244"/>
                </a:lnTo>
                <a:lnTo>
                  <a:pt x="285750" y="423863"/>
                </a:lnTo>
                <a:lnTo>
                  <a:pt x="242887" y="409575"/>
                </a:lnTo>
                <a:lnTo>
                  <a:pt x="169068" y="373856"/>
                </a:lnTo>
                <a:lnTo>
                  <a:pt x="97631" y="314325"/>
                </a:lnTo>
                <a:lnTo>
                  <a:pt x="30956" y="242888"/>
                </a:lnTo>
                <a:lnTo>
                  <a:pt x="0" y="190500"/>
                </a:lnTo>
                <a:lnTo>
                  <a:pt x="0" y="169069"/>
                </a:lnTo>
                <a:lnTo>
                  <a:pt x="2381" y="154781"/>
                </a:lnTo>
                <a:lnTo>
                  <a:pt x="14287" y="152400"/>
                </a:lnTo>
                <a:lnTo>
                  <a:pt x="40481" y="159544"/>
                </a:lnTo>
                <a:lnTo>
                  <a:pt x="69056" y="178594"/>
                </a:lnTo>
                <a:lnTo>
                  <a:pt x="102393" y="195263"/>
                </a:lnTo>
                <a:lnTo>
                  <a:pt x="150018" y="211931"/>
                </a:lnTo>
                <a:lnTo>
                  <a:pt x="197643" y="223838"/>
                </a:lnTo>
                <a:lnTo>
                  <a:pt x="271462" y="233363"/>
                </a:lnTo>
                <a:lnTo>
                  <a:pt x="350043" y="235744"/>
                </a:lnTo>
                <a:lnTo>
                  <a:pt x="419100" y="230981"/>
                </a:lnTo>
                <a:lnTo>
                  <a:pt x="481012" y="226219"/>
                </a:lnTo>
                <a:lnTo>
                  <a:pt x="538162" y="2190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 rot="16200000">
            <a:off x="3220920" y="4084560"/>
            <a:ext cx="2965680" cy="409680"/>
          </a:xfrm>
          <a:custGeom>
            <a:avLst/>
            <a:gdLst/>
            <a:ahLst/>
            <a:rect l="l" t="t" r="r" b="b"/>
            <a:pathLst>
              <a:path w="2966163" h="408348">
                <a:moveTo>
                  <a:pt x="1595816" y="20042"/>
                </a:moveTo>
                <a:lnTo>
                  <a:pt x="1828800" y="40083"/>
                </a:lnTo>
                <a:lnTo>
                  <a:pt x="1903956" y="45094"/>
                </a:lnTo>
                <a:lnTo>
                  <a:pt x="2131930" y="75156"/>
                </a:lnTo>
                <a:lnTo>
                  <a:pt x="2322325" y="110229"/>
                </a:lnTo>
                <a:lnTo>
                  <a:pt x="2475143" y="132776"/>
                </a:lnTo>
                <a:lnTo>
                  <a:pt x="2605413" y="150312"/>
                </a:lnTo>
                <a:lnTo>
                  <a:pt x="2693096" y="160333"/>
                </a:lnTo>
                <a:lnTo>
                  <a:pt x="2750715" y="162838"/>
                </a:lnTo>
                <a:lnTo>
                  <a:pt x="2790799" y="155323"/>
                </a:lnTo>
                <a:lnTo>
                  <a:pt x="2835892" y="140291"/>
                </a:lnTo>
                <a:lnTo>
                  <a:pt x="2870965" y="117745"/>
                </a:lnTo>
                <a:lnTo>
                  <a:pt x="2896017" y="90187"/>
                </a:lnTo>
                <a:lnTo>
                  <a:pt x="2911049" y="85177"/>
                </a:lnTo>
                <a:lnTo>
                  <a:pt x="2938606" y="82672"/>
                </a:lnTo>
                <a:lnTo>
                  <a:pt x="2953637" y="85177"/>
                </a:lnTo>
                <a:lnTo>
                  <a:pt x="2958647" y="90187"/>
                </a:lnTo>
                <a:lnTo>
                  <a:pt x="2966163" y="105219"/>
                </a:lnTo>
                <a:lnTo>
                  <a:pt x="2961153" y="132776"/>
                </a:lnTo>
                <a:lnTo>
                  <a:pt x="2948627" y="165344"/>
                </a:lnTo>
                <a:lnTo>
                  <a:pt x="2918564" y="210437"/>
                </a:lnTo>
                <a:lnTo>
                  <a:pt x="2870965" y="265552"/>
                </a:lnTo>
                <a:lnTo>
                  <a:pt x="2788293" y="343213"/>
                </a:lnTo>
                <a:lnTo>
                  <a:pt x="2733179" y="385802"/>
                </a:lnTo>
                <a:lnTo>
                  <a:pt x="2698106" y="403338"/>
                </a:lnTo>
                <a:lnTo>
                  <a:pt x="2670549" y="408348"/>
                </a:lnTo>
                <a:lnTo>
                  <a:pt x="2637981" y="405843"/>
                </a:lnTo>
                <a:lnTo>
                  <a:pt x="2592887" y="393317"/>
                </a:lnTo>
                <a:lnTo>
                  <a:pt x="2565330" y="375781"/>
                </a:lnTo>
                <a:lnTo>
                  <a:pt x="2545289" y="363255"/>
                </a:lnTo>
                <a:lnTo>
                  <a:pt x="2517731" y="353234"/>
                </a:lnTo>
                <a:lnTo>
                  <a:pt x="2407502" y="323171"/>
                </a:lnTo>
                <a:lnTo>
                  <a:pt x="2259695" y="290604"/>
                </a:lnTo>
                <a:lnTo>
                  <a:pt x="2177023" y="273067"/>
                </a:lnTo>
                <a:lnTo>
                  <a:pt x="1891430" y="240500"/>
                </a:lnTo>
                <a:lnTo>
                  <a:pt x="1560743" y="205427"/>
                </a:lnTo>
                <a:lnTo>
                  <a:pt x="1332769" y="182880"/>
                </a:lnTo>
                <a:lnTo>
                  <a:pt x="1210014" y="177870"/>
                </a:lnTo>
                <a:lnTo>
                  <a:pt x="1119827" y="177870"/>
                </a:lnTo>
                <a:lnTo>
                  <a:pt x="751561" y="180375"/>
                </a:lnTo>
                <a:lnTo>
                  <a:pt x="633817" y="180375"/>
                </a:lnTo>
                <a:lnTo>
                  <a:pt x="561166" y="187890"/>
                </a:lnTo>
                <a:lnTo>
                  <a:pt x="443421" y="222963"/>
                </a:lnTo>
                <a:lnTo>
                  <a:pt x="323171" y="263047"/>
                </a:lnTo>
                <a:lnTo>
                  <a:pt x="245510" y="290604"/>
                </a:lnTo>
                <a:lnTo>
                  <a:pt x="207932" y="305635"/>
                </a:lnTo>
                <a:lnTo>
                  <a:pt x="172859" y="315656"/>
                </a:lnTo>
                <a:lnTo>
                  <a:pt x="142797" y="315656"/>
                </a:lnTo>
                <a:lnTo>
                  <a:pt x="80166" y="298119"/>
                </a:lnTo>
                <a:lnTo>
                  <a:pt x="30062" y="273067"/>
                </a:lnTo>
                <a:lnTo>
                  <a:pt x="10021" y="250520"/>
                </a:lnTo>
                <a:lnTo>
                  <a:pt x="0" y="222963"/>
                </a:lnTo>
                <a:lnTo>
                  <a:pt x="5010" y="195406"/>
                </a:lnTo>
                <a:lnTo>
                  <a:pt x="25052" y="162838"/>
                </a:lnTo>
                <a:lnTo>
                  <a:pt x="62630" y="130271"/>
                </a:lnTo>
                <a:lnTo>
                  <a:pt x="95198" y="110229"/>
                </a:lnTo>
                <a:lnTo>
                  <a:pt x="187890" y="77661"/>
                </a:lnTo>
                <a:lnTo>
                  <a:pt x="268057" y="50104"/>
                </a:lnTo>
                <a:lnTo>
                  <a:pt x="378286" y="27557"/>
                </a:lnTo>
                <a:lnTo>
                  <a:pt x="440916" y="22547"/>
                </a:lnTo>
                <a:lnTo>
                  <a:pt x="541124" y="15031"/>
                </a:lnTo>
                <a:lnTo>
                  <a:pt x="754067" y="2505"/>
                </a:lnTo>
                <a:lnTo>
                  <a:pt x="951978" y="2505"/>
                </a:lnTo>
                <a:lnTo>
                  <a:pt x="1047176" y="2505"/>
                </a:lnTo>
                <a:lnTo>
                  <a:pt x="1260118" y="0"/>
                </a:lnTo>
                <a:lnTo>
                  <a:pt x="1437988" y="12526"/>
                </a:lnTo>
                <a:lnTo>
                  <a:pt x="1595816" y="200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15"/>
          <p:cNvSpPr/>
          <p:nvPr/>
        </p:nvSpPr>
        <p:spPr>
          <a:xfrm rot="19800000">
            <a:off x="3443400" y="4513320"/>
            <a:ext cx="2162160" cy="941400"/>
          </a:xfrm>
          <a:custGeom>
            <a:avLst/>
            <a:gdLst/>
            <a:ahLst/>
            <a:rect l="l" t="t" r="r" b="b"/>
            <a:pathLst>
              <a:path w="2162175" h="940594">
                <a:moveTo>
                  <a:pt x="1504950" y="538163"/>
                </a:moveTo>
                <a:lnTo>
                  <a:pt x="1674019" y="442913"/>
                </a:lnTo>
                <a:lnTo>
                  <a:pt x="1828800" y="350044"/>
                </a:lnTo>
                <a:lnTo>
                  <a:pt x="1931194" y="269081"/>
                </a:lnTo>
                <a:lnTo>
                  <a:pt x="1983581" y="223838"/>
                </a:lnTo>
                <a:lnTo>
                  <a:pt x="2024062" y="171450"/>
                </a:lnTo>
                <a:lnTo>
                  <a:pt x="2047875" y="126206"/>
                </a:lnTo>
                <a:lnTo>
                  <a:pt x="2071687" y="71438"/>
                </a:lnTo>
                <a:lnTo>
                  <a:pt x="2081212" y="33338"/>
                </a:lnTo>
                <a:lnTo>
                  <a:pt x="2083594" y="16669"/>
                </a:lnTo>
                <a:lnTo>
                  <a:pt x="2085975" y="2381"/>
                </a:lnTo>
                <a:lnTo>
                  <a:pt x="2093119" y="0"/>
                </a:lnTo>
                <a:lnTo>
                  <a:pt x="2100262" y="4763"/>
                </a:lnTo>
                <a:lnTo>
                  <a:pt x="2114550" y="23813"/>
                </a:lnTo>
                <a:lnTo>
                  <a:pt x="2133600" y="61913"/>
                </a:lnTo>
                <a:lnTo>
                  <a:pt x="2150269" y="109538"/>
                </a:lnTo>
                <a:lnTo>
                  <a:pt x="2159794" y="152400"/>
                </a:lnTo>
                <a:lnTo>
                  <a:pt x="2162175" y="188119"/>
                </a:lnTo>
                <a:lnTo>
                  <a:pt x="2157412" y="230981"/>
                </a:lnTo>
                <a:lnTo>
                  <a:pt x="2140744" y="280988"/>
                </a:lnTo>
                <a:lnTo>
                  <a:pt x="2112169" y="328613"/>
                </a:lnTo>
                <a:lnTo>
                  <a:pt x="2066925" y="383381"/>
                </a:lnTo>
                <a:lnTo>
                  <a:pt x="2021681" y="426244"/>
                </a:lnTo>
                <a:lnTo>
                  <a:pt x="1933575" y="485775"/>
                </a:lnTo>
                <a:lnTo>
                  <a:pt x="1788319" y="573881"/>
                </a:lnTo>
                <a:lnTo>
                  <a:pt x="1657350" y="642938"/>
                </a:lnTo>
                <a:lnTo>
                  <a:pt x="1423987" y="738188"/>
                </a:lnTo>
                <a:lnTo>
                  <a:pt x="1207294" y="823913"/>
                </a:lnTo>
                <a:lnTo>
                  <a:pt x="969169" y="900113"/>
                </a:lnTo>
                <a:lnTo>
                  <a:pt x="809625" y="921544"/>
                </a:lnTo>
                <a:lnTo>
                  <a:pt x="642937" y="938213"/>
                </a:lnTo>
                <a:lnTo>
                  <a:pt x="502444" y="940594"/>
                </a:lnTo>
                <a:lnTo>
                  <a:pt x="333375" y="921544"/>
                </a:lnTo>
                <a:lnTo>
                  <a:pt x="211931" y="890588"/>
                </a:lnTo>
                <a:lnTo>
                  <a:pt x="119062" y="854869"/>
                </a:lnTo>
                <a:lnTo>
                  <a:pt x="47625" y="812006"/>
                </a:lnTo>
                <a:lnTo>
                  <a:pt x="11906" y="762000"/>
                </a:lnTo>
                <a:lnTo>
                  <a:pt x="0" y="719138"/>
                </a:lnTo>
                <a:lnTo>
                  <a:pt x="195262" y="659606"/>
                </a:lnTo>
                <a:lnTo>
                  <a:pt x="202406" y="673894"/>
                </a:lnTo>
                <a:lnTo>
                  <a:pt x="221456" y="700088"/>
                </a:lnTo>
                <a:lnTo>
                  <a:pt x="254794" y="726281"/>
                </a:lnTo>
                <a:lnTo>
                  <a:pt x="302419" y="750094"/>
                </a:lnTo>
                <a:lnTo>
                  <a:pt x="388144" y="778669"/>
                </a:lnTo>
                <a:lnTo>
                  <a:pt x="471487" y="788194"/>
                </a:lnTo>
                <a:lnTo>
                  <a:pt x="552450" y="790575"/>
                </a:lnTo>
                <a:lnTo>
                  <a:pt x="678656" y="781050"/>
                </a:lnTo>
                <a:lnTo>
                  <a:pt x="800100" y="759619"/>
                </a:lnTo>
                <a:lnTo>
                  <a:pt x="904875" y="738188"/>
                </a:lnTo>
                <a:lnTo>
                  <a:pt x="1123950" y="690563"/>
                </a:lnTo>
                <a:lnTo>
                  <a:pt x="1223962" y="654844"/>
                </a:lnTo>
                <a:lnTo>
                  <a:pt x="1395412" y="585788"/>
                </a:lnTo>
                <a:lnTo>
                  <a:pt x="1504950" y="538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7"/>
          <p:cNvSpPr/>
          <p:nvPr/>
        </p:nvSpPr>
        <p:spPr>
          <a:xfrm rot="19800000">
            <a:off x="3435480" y="4698720"/>
            <a:ext cx="1747800" cy="663480"/>
          </a:xfrm>
          <a:custGeom>
            <a:avLst/>
            <a:gdLst/>
            <a:ahLst/>
            <a:rect l="l" t="t" r="r" b="b"/>
            <a:pathLst>
              <a:path w="1747837" h="664368">
                <a:moveTo>
                  <a:pt x="554831" y="42862"/>
                </a:moveTo>
                <a:lnTo>
                  <a:pt x="683418" y="16668"/>
                </a:lnTo>
                <a:lnTo>
                  <a:pt x="871537" y="0"/>
                </a:lnTo>
                <a:lnTo>
                  <a:pt x="1092993" y="0"/>
                </a:lnTo>
                <a:lnTo>
                  <a:pt x="1252537" y="7143"/>
                </a:lnTo>
                <a:lnTo>
                  <a:pt x="1362075" y="21431"/>
                </a:lnTo>
                <a:lnTo>
                  <a:pt x="1493043" y="42862"/>
                </a:lnTo>
                <a:lnTo>
                  <a:pt x="1635918" y="71437"/>
                </a:lnTo>
                <a:lnTo>
                  <a:pt x="1747837" y="100012"/>
                </a:lnTo>
                <a:lnTo>
                  <a:pt x="1702593" y="221456"/>
                </a:lnTo>
                <a:lnTo>
                  <a:pt x="1550193" y="183356"/>
                </a:lnTo>
                <a:lnTo>
                  <a:pt x="1343025" y="157162"/>
                </a:lnTo>
                <a:lnTo>
                  <a:pt x="1147762" y="138112"/>
                </a:lnTo>
                <a:lnTo>
                  <a:pt x="983456" y="123825"/>
                </a:lnTo>
                <a:lnTo>
                  <a:pt x="831056" y="123825"/>
                </a:lnTo>
                <a:lnTo>
                  <a:pt x="716756" y="135731"/>
                </a:lnTo>
                <a:lnTo>
                  <a:pt x="600075" y="157162"/>
                </a:lnTo>
                <a:lnTo>
                  <a:pt x="492918" y="190500"/>
                </a:lnTo>
                <a:lnTo>
                  <a:pt x="402431" y="233362"/>
                </a:lnTo>
                <a:lnTo>
                  <a:pt x="335756" y="273843"/>
                </a:lnTo>
                <a:lnTo>
                  <a:pt x="276225" y="328612"/>
                </a:lnTo>
                <a:lnTo>
                  <a:pt x="235743" y="385762"/>
                </a:lnTo>
                <a:lnTo>
                  <a:pt x="204787" y="445293"/>
                </a:lnTo>
                <a:lnTo>
                  <a:pt x="188118" y="492918"/>
                </a:lnTo>
                <a:lnTo>
                  <a:pt x="185737" y="533400"/>
                </a:lnTo>
                <a:lnTo>
                  <a:pt x="185737" y="561975"/>
                </a:lnTo>
                <a:lnTo>
                  <a:pt x="197643" y="592931"/>
                </a:lnTo>
                <a:cubicBezTo>
                  <a:pt x="207562" y="610289"/>
                  <a:pt x="213567" y="609600"/>
                  <a:pt x="204787" y="609600"/>
                </a:cubicBezTo>
                <a:lnTo>
                  <a:pt x="7143" y="664368"/>
                </a:lnTo>
                <a:lnTo>
                  <a:pt x="0" y="631031"/>
                </a:lnTo>
                <a:cubicBezTo>
                  <a:pt x="4850" y="587379"/>
                  <a:pt x="4762" y="602544"/>
                  <a:pt x="4762" y="585787"/>
                </a:cubicBezTo>
                <a:lnTo>
                  <a:pt x="7143" y="564356"/>
                </a:lnTo>
                <a:lnTo>
                  <a:pt x="2381" y="523875"/>
                </a:lnTo>
                <a:lnTo>
                  <a:pt x="2381" y="461962"/>
                </a:lnTo>
                <a:lnTo>
                  <a:pt x="30956" y="390525"/>
                </a:lnTo>
                <a:lnTo>
                  <a:pt x="78581" y="311943"/>
                </a:lnTo>
                <a:lnTo>
                  <a:pt x="123825" y="257175"/>
                </a:lnTo>
                <a:lnTo>
                  <a:pt x="188118" y="200025"/>
                </a:lnTo>
                <a:lnTo>
                  <a:pt x="290512" y="135731"/>
                </a:lnTo>
                <a:lnTo>
                  <a:pt x="361950" y="100012"/>
                </a:lnTo>
                <a:lnTo>
                  <a:pt x="431006" y="73818"/>
                </a:lnTo>
                <a:lnTo>
                  <a:pt x="490537" y="59531"/>
                </a:lnTo>
                <a:lnTo>
                  <a:pt x="554831" y="428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6"/>
          <p:cNvSpPr/>
          <p:nvPr/>
        </p:nvSpPr>
        <p:spPr>
          <a:xfrm>
            <a:off x="4933800" y="4322880"/>
            <a:ext cx="1303560" cy="609480"/>
          </a:xfrm>
          <a:custGeom>
            <a:avLst/>
            <a:gdLst/>
            <a:ahLst/>
            <a:rect l="l" t="t" r="r" b="b"/>
            <a:pathLst>
              <a:path w="1302544" h="609600">
                <a:moveTo>
                  <a:pt x="640556" y="157162"/>
                </a:moveTo>
                <a:lnTo>
                  <a:pt x="542925" y="142875"/>
                </a:lnTo>
                <a:lnTo>
                  <a:pt x="431006" y="135731"/>
                </a:lnTo>
                <a:lnTo>
                  <a:pt x="316706" y="145256"/>
                </a:lnTo>
                <a:lnTo>
                  <a:pt x="192881" y="159544"/>
                </a:lnTo>
                <a:lnTo>
                  <a:pt x="78581" y="185737"/>
                </a:lnTo>
                <a:lnTo>
                  <a:pt x="21431" y="202406"/>
                </a:lnTo>
                <a:lnTo>
                  <a:pt x="0" y="76200"/>
                </a:lnTo>
                <a:lnTo>
                  <a:pt x="76200" y="59531"/>
                </a:lnTo>
                <a:lnTo>
                  <a:pt x="242888" y="23812"/>
                </a:lnTo>
                <a:lnTo>
                  <a:pt x="378619" y="2381"/>
                </a:lnTo>
                <a:lnTo>
                  <a:pt x="464344" y="0"/>
                </a:lnTo>
                <a:lnTo>
                  <a:pt x="581025" y="2381"/>
                </a:lnTo>
                <a:lnTo>
                  <a:pt x="702469" y="16669"/>
                </a:lnTo>
                <a:lnTo>
                  <a:pt x="792956" y="35719"/>
                </a:lnTo>
                <a:lnTo>
                  <a:pt x="902494" y="71437"/>
                </a:lnTo>
                <a:lnTo>
                  <a:pt x="981075" y="111919"/>
                </a:lnTo>
                <a:lnTo>
                  <a:pt x="1064419" y="166687"/>
                </a:lnTo>
                <a:lnTo>
                  <a:pt x="1135856" y="228600"/>
                </a:lnTo>
                <a:lnTo>
                  <a:pt x="1190625" y="297656"/>
                </a:lnTo>
                <a:lnTo>
                  <a:pt x="1228725" y="359569"/>
                </a:lnTo>
                <a:lnTo>
                  <a:pt x="1264444" y="433387"/>
                </a:lnTo>
                <a:lnTo>
                  <a:pt x="1285875" y="500062"/>
                </a:lnTo>
                <a:lnTo>
                  <a:pt x="1297781" y="566737"/>
                </a:lnTo>
                <a:lnTo>
                  <a:pt x="1302544" y="609600"/>
                </a:lnTo>
                <a:lnTo>
                  <a:pt x="1078706" y="600075"/>
                </a:lnTo>
                <a:lnTo>
                  <a:pt x="1073944" y="564356"/>
                </a:lnTo>
                <a:lnTo>
                  <a:pt x="1064419" y="502444"/>
                </a:lnTo>
                <a:lnTo>
                  <a:pt x="1038225" y="423862"/>
                </a:lnTo>
                <a:lnTo>
                  <a:pt x="1014413" y="369094"/>
                </a:lnTo>
                <a:lnTo>
                  <a:pt x="971550" y="307181"/>
                </a:lnTo>
                <a:lnTo>
                  <a:pt x="897731" y="250031"/>
                </a:lnTo>
                <a:lnTo>
                  <a:pt x="785813" y="195262"/>
                </a:lnTo>
                <a:lnTo>
                  <a:pt x="695325" y="169069"/>
                </a:lnTo>
                <a:lnTo>
                  <a:pt x="640556" y="157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7"/>
          <p:cNvSpPr/>
          <p:nvPr/>
        </p:nvSpPr>
        <p:spPr>
          <a:xfrm>
            <a:off x="5167440" y="4900680"/>
            <a:ext cx="1073160" cy="1009440"/>
          </a:xfrm>
          <a:custGeom>
            <a:avLst/>
            <a:gdLst/>
            <a:ahLst/>
            <a:rect l="l" t="t" r="r" b="b"/>
            <a:pathLst>
              <a:path w="1073943" h="1009650">
                <a:moveTo>
                  <a:pt x="523875" y="688181"/>
                </a:moveTo>
                <a:lnTo>
                  <a:pt x="581025" y="645318"/>
                </a:lnTo>
                <a:lnTo>
                  <a:pt x="642937" y="592931"/>
                </a:lnTo>
                <a:lnTo>
                  <a:pt x="707231" y="523875"/>
                </a:lnTo>
                <a:lnTo>
                  <a:pt x="754856" y="459581"/>
                </a:lnTo>
                <a:lnTo>
                  <a:pt x="797718" y="381000"/>
                </a:lnTo>
                <a:lnTo>
                  <a:pt x="828675" y="300037"/>
                </a:lnTo>
                <a:lnTo>
                  <a:pt x="840581" y="238125"/>
                </a:lnTo>
                <a:lnTo>
                  <a:pt x="850106" y="133350"/>
                </a:lnTo>
                <a:lnTo>
                  <a:pt x="850106" y="59531"/>
                </a:lnTo>
                <a:lnTo>
                  <a:pt x="845343" y="0"/>
                </a:lnTo>
                <a:lnTo>
                  <a:pt x="1064418" y="14287"/>
                </a:lnTo>
                <a:lnTo>
                  <a:pt x="1069181" y="71437"/>
                </a:lnTo>
                <a:lnTo>
                  <a:pt x="1073943" y="140493"/>
                </a:lnTo>
                <a:cubicBezTo>
                  <a:pt x="1073149" y="159543"/>
                  <a:pt x="1072356" y="178593"/>
                  <a:pt x="1071562" y="197643"/>
                </a:cubicBezTo>
                <a:lnTo>
                  <a:pt x="1059656" y="276225"/>
                </a:lnTo>
                <a:lnTo>
                  <a:pt x="1028700" y="376237"/>
                </a:lnTo>
                <a:lnTo>
                  <a:pt x="983456" y="464343"/>
                </a:lnTo>
                <a:lnTo>
                  <a:pt x="921543" y="554831"/>
                </a:lnTo>
                <a:lnTo>
                  <a:pt x="845343" y="635793"/>
                </a:lnTo>
                <a:lnTo>
                  <a:pt x="757237" y="711993"/>
                </a:lnTo>
                <a:lnTo>
                  <a:pt x="654843" y="783431"/>
                </a:lnTo>
                <a:lnTo>
                  <a:pt x="547687" y="842962"/>
                </a:lnTo>
                <a:lnTo>
                  <a:pt x="392906" y="912018"/>
                </a:lnTo>
                <a:lnTo>
                  <a:pt x="250031" y="959643"/>
                </a:lnTo>
                <a:lnTo>
                  <a:pt x="107156" y="997743"/>
                </a:lnTo>
                <a:lnTo>
                  <a:pt x="45243" y="1009650"/>
                </a:lnTo>
                <a:lnTo>
                  <a:pt x="16668" y="1007268"/>
                </a:lnTo>
                <a:lnTo>
                  <a:pt x="2381" y="1000125"/>
                </a:lnTo>
                <a:lnTo>
                  <a:pt x="0" y="988218"/>
                </a:lnTo>
                <a:lnTo>
                  <a:pt x="9525" y="971550"/>
                </a:lnTo>
                <a:lnTo>
                  <a:pt x="45243" y="942975"/>
                </a:lnTo>
                <a:lnTo>
                  <a:pt x="104775" y="919162"/>
                </a:lnTo>
                <a:lnTo>
                  <a:pt x="204787" y="871537"/>
                </a:lnTo>
                <a:lnTo>
                  <a:pt x="352425" y="800100"/>
                </a:lnTo>
                <a:lnTo>
                  <a:pt x="466725" y="731043"/>
                </a:lnTo>
                <a:lnTo>
                  <a:pt x="523875" y="6881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27:53Z</dcterms:modified>
  <cp:revision>145</cp:revision>
  <dc:subject/>
  <dc:title>スライド 1</dc:title>
</cp:coreProperties>
</file>