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4865-86C4-401F-A5A1-D5E71DF6CA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D705-21D3-4DB7-9A37-F426DEAA40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FE7-BE61-41FD-BE3A-7458961A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4A6-2EF4-4B6C-BE72-695FD64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1DF-7BCF-497A-9ED8-95143C74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428-727E-41AA-96BC-F721BD6C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382-AD60-4384-BCF5-CC69F7C1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9ED-09BD-4AAB-90F3-42DED763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E5F-5B22-40CA-BB74-B7C16B2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CBE-A80D-4AD3-9641-51558CF3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192-EBA1-43B6-A808-E17B3F30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A02-0DCB-4CAF-84AF-4A9BAC44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663-19DA-4642-8357-A784AD73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290-77E5-4B5B-BDF9-87E6552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77DF-DB29-43F9-99A6-A41247820B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1951200" y="-139680"/>
            <a:ext cx="5979960" cy="701676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2487600" y="4795920"/>
            <a:ext cx="1257480" cy="1342800"/>
          </a:xfrm>
          <a:custGeom>
            <a:avLst/>
            <a:gdLst/>
            <a:ahLst/>
            <a:rect l="l" t="t" r="r" b="b"/>
            <a:pathLst>
              <a:path w="1257423" h="1344583">
                <a:moveTo>
                  <a:pt x="11815" y="15305"/>
                </a:moveTo>
                <a:cubicBezTo>
                  <a:pt x="40203" y="10713"/>
                  <a:pt x="46564" y="-4898"/>
                  <a:pt x="96979" y="1530"/>
                </a:cubicBezTo>
                <a:cubicBezTo>
                  <a:pt x="137237" y="14106"/>
                  <a:pt x="195192" y="39797"/>
                  <a:pt x="267127" y="71476"/>
                </a:cubicBezTo>
                <a:cubicBezTo>
                  <a:pt x="339062" y="103155"/>
                  <a:pt x="412746" y="145948"/>
                  <a:pt x="514824" y="208134"/>
                </a:cubicBezTo>
                <a:cubicBezTo>
                  <a:pt x="635497" y="294300"/>
                  <a:pt x="739650" y="344652"/>
                  <a:pt x="876843" y="466633"/>
                </a:cubicBezTo>
                <a:cubicBezTo>
                  <a:pt x="947794" y="530033"/>
                  <a:pt x="1029552" y="596189"/>
                  <a:pt x="1078477" y="659589"/>
                </a:cubicBezTo>
                <a:cubicBezTo>
                  <a:pt x="1108140" y="711501"/>
                  <a:pt x="1151570" y="749637"/>
                  <a:pt x="1181233" y="801549"/>
                </a:cubicBezTo>
                <a:lnTo>
                  <a:pt x="1233280" y="935575"/>
                </a:lnTo>
                <a:cubicBezTo>
                  <a:pt x="1252332" y="998292"/>
                  <a:pt x="1261458" y="1016567"/>
                  <a:pt x="1255729" y="1073773"/>
                </a:cubicBezTo>
                <a:cubicBezTo>
                  <a:pt x="1246405" y="1150150"/>
                  <a:pt x="1237084" y="1174179"/>
                  <a:pt x="1230514" y="1225760"/>
                </a:cubicBezTo>
                <a:cubicBezTo>
                  <a:pt x="1184266" y="1263023"/>
                  <a:pt x="1162797" y="1300286"/>
                  <a:pt x="1091769" y="1337548"/>
                </a:cubicBezTo>
                <a:cubicBezTo>
                  <a:pt x="1017008" y="1345088"/>
                  <a:pt x="975289" y="1363649"/>
                  <a:pt x="850968" y="1277519"/>
                </a:cubicBezTo>
                <a:cubicBezTo>
                  <a:pt x="770451" y="1157397"/>
                  <a:pt x="778038" y="1141963"/>
                  <a:pt x="741573" y="1074185"/>
                </a:cubicBezTo>
                <a:lnTo>
                  <a:pt x="592171" y="753337"/>
                </a:lnTo>
                <a:lnTo>
                  <a:pt x="442769" y="534560"/>
                </a:lnTo>
                <a:lnTo>
                  <a:pt x="269874" y="335068"/>
                </a:lnTo>
                <a:lnTo>
                  <a:pt x="137724" y="195014"/>
                </a:lnTo>
                <a:cubicBezTo>
                  <a:pt x="96672" y="145213"/>
                  <a:pt x="-40745" y="81636"/>
                  <a:pt x="11815" y="1530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>Toshinobu Asada</dc:creator>
  <dc:description/>
  <dc:language>en-US</dc:language>
  <cp:lastModifiedBy>Asada Toshinobu</cp:lastModifiedBy>
  <dcterms:modified xsi:type="dcterms:W3CDTF">2020-09-28T16:21:02Z</dcterms:modified>
  <cp:revision>69</cp:revision>
  <dc:subject/>
  <dc:title>スライド 1</dc:title>
</cp:coreProperties>
</file>