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8C12-30E4-4493-A2AB-91ABBB3DACF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2EFB-84EC-4278-B04B-A8366C3F06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A06-527F-4C63-9018-5096AE62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8C5-FBF5-4E21-A133-688A2181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EAC-3062-48D6-9BAA-DC915746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8D0-8A44-4C41-9D5A-F8F880DE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2753-A7AD-4819-BB78-DB8EEB81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A5B4-B94F-452E-9D73-286A685F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BAE-0D51-4E54-AAE1-6D02EA57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3AC-1E6C-4773-8928-45F87ECD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2CC-3E8D-430E-BB93-831AF6B8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FFB-2500-4985-AF35-2025BDB0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856D-312E-4ED6-9872-BD50608D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2DBC-811A-474D-A17B-6B077044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85A1-71DD-4A6C-9135-B0C6D21B5A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3"/>
          <p:cNvSpPr/>
          <p:nvPr/>
        </p:nvSpPr>
        <p:spPr>
          <a:xfrm>
            <a:off x="3686040" y="3363840"/>
            <a:ext cx="2355840" cy="444600"/>
          </a:xfrm>
          <a:custGeom>
            <a:avLst/>
            <a:gdLst/>
            <a:ahLst/>
            <a:rect l="l" t="t" r="r" b="b"/>
            <a:pathLst>
              <a:path w="2355056" h="442913">
                <a:moveTo>
                  <a:pt x="990600" y="169069"/>
                </a:moveTo>
                <a:lnTo>
                  <a:pt x="1385888" y="128588"/>
                </a:lnTo>
                <a:lnTo>
                  <a:pt x="1771650" y="80963"/>
                </a:lnTo>
                <a:lnTo>
                  <a:pt x="1869281" y="66675"/>
                </a:lnTo>
                <a:lnTo>
                  <a:pt x="1895475" y="57150"/>
                </a:lnTo>
                <a:lnTo>
                  <a:pt x="1947863" y="23813"/>
                </a:lnTo>
                <a:lnTo>
                  <a:pt x="2005013" y="2382"/>
                </a:lnTo>
                <a:lnTo>
                  <a:pt x="2040731" y="0"/>
                </a:lnTo>
                <a:lnTo>
                  <a:pt x="2057400" y="7144"/>
                </a:lnTo>
                <a:lnTo>
                  <a:pt x="2124075" y="64294"/>
                </a:lnTo>
                <a:lnTo>
                  <a:pt x="2259806" y="166688"/>
                </a:lnTo>
                <a:lnTo>
                  <a:pt x="2336006" y="226219"/>
                </a:lnTo>
                <a:lnTo>
                  <a:pt x="2350294" y="242888"/>
                </a:lnTo>
                <a:lnTo>
                  <a:pt x="2355056" y="259557"/>
                </a:lnTo>
                <a:lnTo>
                  <a:pt x="2355056" y="283369"/>
                </a:lnTo>
                <a:lnTo>
                  <a:pt x="2350294" y="295275"/>
                </a:lnTo>
                <a:lnTo>
                  <a:pt x="2340769" y="311944"/>
                </a:lnTo>
                <a:lnTo>
                  <a:pt x="2328863" y="323850"/>
                </a:lnTo>
                <a:lnTo>
                  <a:pt x="2312194" y="338138"/>
                </a:lnTo>
                <a:lnTo>
                  <a:pt x="2295525" y="350044"/>
                </a:lnTo>
                <a:lnTo>
                  <a:pt x="2286000" y="361950"/>
                </a:lnTo>
                <a:lnTo>
                  <a:pt x="2016919" y="309563"/>
                </a:lnTo>
                <a:lnTo>
                  <a:pt x="2014538" y="297657"/>
                </a:lnTo>
                <a:lnTo>
                  <a:pt x="2007394" y="283369"/>
                </a:lnTo>
                <a:lnTo>
                  <a:pt x="1988344" y="261938"/>
                </a:lnTo>
                <a:lnTo>
                  <a:pt x="1962150" y="250032"/>
                </a:lnTo>
                <a:lnTo>
                  <a:pt x="1916906" y="245269"/>
                </a:lnTo>
                <a:lnTo>
                  <a:pt x="1738313" y="250032"/>
                </a:lnTo>
                <a:lnTo>
                  <a:pt x="1433513" y="271463"/>
                </a:lnTo>
                <a:lnTo>
                  <a:pt x="1109663" y="309563"/>
                </a:lnTo>
                <a:lnTo>
                  <a:pt x="669131" y="381000"/>
                </a:lnTo>
                <a:lnTo>
                  <a:pt x="578644" y="397669"/>
                </a:lnTo>
                <a:lnTo>
                  <a:pt x="435769" y="419100"/>
                </a:lnTo>
                <a:lnTo>
                  <a:pt x="314325" y="442913"/>
                </a:lnTo>
                <a:lnTo>
                  <a:pt x="295275" y="442913"/>
                </a:lnTo>
                <a:lnTo>
                  <a:pt x="257175" y="421482"/>
                </a:lnTo>
                <a:lnTo>
                  <a:pt x="66675" y="290513"/>
                </a:lnTo>
                <a:lnTo>
                  <a:pt x="7144" y="245269"/>
                </a:lnTo>
                <a:lnTo>
                  <a:pt x="2381" y="233363"/>
                </a:lnTo>
                <a:lnTo>
                  <a:pt x="0" y="216694"/>
                </a:lnTo>
                <a:lnTo>
                  <a:pt x="4763" y="202407"/>
                </a:lnTo>
                <a:lnTo>
                  <a:pt x="14288" y="192882"/>
                </a:lnTo>
                <a:lnTo>
                  <a:pt x="30956" y="192882"/>
                </a:lnTo>
                <a:lnTo>
                  <a:pt x="66675" y="202407"/>
                </a:lnTo>
                <a:lnTo>
                  <a:pt x="200025" y="219075"/>
                </a:lnTo>
                <a:lnTo>
                  <a:pt x="342900" y="221457"/>
                </a:lnTo>
                <a:lnTo>
                  <a:pt x="571500" y="204788"/>
                </a:lnTo>
                <a:lnTo>
                  <a:pt x="835819" y="183357"/>
                </a:lnTo>
                <a:lnTo>
                  <a:pt x="990600" y="1690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5"/>
          <p:cNvSpPr/>
          <p:nvPr/>
        </p:nvSpPr>
        <p:spPr>
          <a:xfrm rot="16200000">
            <a:off x="4891680" y="4223160"/>
            <a:ext cx="1654200" cy="528480"/>
          </a:xfrm>
          <a:custGeom>
            <a:avLst/>
            <a:gdLst/>
            <a:ahLst/>
            <a:rect l="l" t="t" r="r" b="b"/>
            <a:pathLst>
              <a:path w="1654968" h="528637">
                <a:moveTo>
                  <a:pt x="390525" y="69056"/>
                </a:moveTo>
                <a:lnTo>
                  <a:pt x="831056" y="152400"/>
                </a:lnTo>
                <a:lnTo>
                  <a:pt x="964406" y="169069"/>
                </a:lnTo>
                <a:lnTo>
                  <a:pt x="1328737" y="214312"/>
                </a:lnTo>
                <a:lnTo>
                  <a:pt x="1602581" y="250031"/>
                </a:lnTo>
                <a:lnTo>
                  <a:pt x="1621631" y="252412"/>
                </a:lnTo>
                <a:lnTo>
                  <a:pt x="1633537" y="252412"/>
                </a:lnTo>
                <a:lnTo>
                  <a:pt x="1645443" y="252412"/>
                </a:lnTo>
                <a:lnTo>
                  <a:pt x="1654968" y="250031"/>
                </a:lnTo>
                <a:lnTo>
                  <a:pt x="1600200" y="528637"/>
                </a:lnTo>
                <a:lnTo>
                  <a:pt x="1585912" y="516731"/>
                </a:lnTo>
                <a:lnTo>
                  <a:pt x="1569243" y="514350"/>
                </a:lnTo>
                <a:lnTo>
                  <a:pt x="1431131" y="485775"/>
                </a:lnTo>
                <a:lnTo>
                  <a:pt x="654843" y="333375"/>
                </a:lnTo>
                <a:lnTo>
                  <a:pt x="176212" y="238125"/>
                </a:lnTo>
                <a:lnTo>
                  <a:pt x="23812" y="202406"/>
                </a:lnTo>
                <a:lnTo>
                  <a:pt x="9525" y="192881"/>
                </a:lnTo>
                <a:lnTo>
                  <a:pt x="0" y="180975"/>
                </a:lnTo>
                <a:lnTo>
                  <a:pt x="23812" y="16669"/>
                </a:lnTo>
                <a:lnTo>
                  <a:pt x="30956" y="0"/>
                </a:lnTo>
                <a:lnTo>
                  <a:pt x="116681" y="19050"/>
                </a:lnTo>
                <a:lnTo>
                  <a:pt x="390525" y="690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7"/>
          <p:cNvSpPr/>
          <p:nvPr/>
        </p:nvSpPr>
        <p:spPr>
          <a:xfrm>
            <a:off x="3792600" y="4297320"/>
            <a:ext cx="1841400" cy="384120"/>
          </a:xfrm>
          <a:custGeom>
            <a:avLst/>
            <a:gdLst/>
            <a:ahLst/>
            <a:rect l="l" t="t" r="r" b="b"/>
            <a:pathLst>
              <a:path w="1840707" h="383382">
                <a:moveTo>
                  <a:pt x="852488" y="100013"/>
                </a:moveTo>
                <a:lnTo>
                  <a:pt x="1288257" y="38100"/>
                </a:lnTo>
                <a:lnTo>
                  <a:pt x="1562100" y="0"/>
                </a:lnTo>
                <a:lnTo>
                  <a:pt x="1619250" y="0"/>
                </a:lnTo>
                <a:lnTo>
                  <a:pt x="1666875" y="0"/>
                </a:lnTo>
                <a:lnTo>
                  <a:pt x="1700213" y="7144"/>
                </a:lnTo>
                <a:lnTo>
                  <a:pt x="1731169" y="14288"/>
                </a:lnTo>
                <a:lnTo>
                  <a:pt x="1752600" y="23813"/>
                </a:lnTo>
                <a:lnTo>
                  <a:pt x="1788319" y="50007"/>
                </a:lnTo>
                <a:lnTo>
                  <a:pt x="1807369" y="69057"/>
                </a:lnTo>
                <a:lnTo>
                  <a:pt x="1831182" y="100013"/>
                </a:lnTo>
                <a:lnTo>
                  <a:pt x="1840707" y="114300"/>
                </a:lnTo>
                <a:lnTo>
                  <a:pt x="1835944" y="126207"/>
                </a:lnTo>
                <a:cubicBezTo>
                  <a:pt x="1823577" y="143521"/>
                  <a:pt x="1830866" y="142875"/>
                  <a:pt x="1821657" y="142875"/>
                </a:cubicBezTo>
                <a:lnTo>
                  <a:pt x="1783557" y="166688"/>
                </a:lnTo>
                <a:lnTo>
                  <a:pt x="1716882" y="180975"/>
                </a:lnTo>
                <a:lnTo>
                  <a:pt x="1566863" y="190500"/>
                </a:lnTo>
                <a:lnTo>
                  <a:pt x="1316832" y="223838"/>
                </a:lnTo>
                <a:lnTo>
                  <a:pt x="697707" y="319088"/>
                </a:lnTo>
                <a:lnTo>
                  <a:pt x="338138" y="376238"/>
                </a:lnTo>
                <a:lnTo>
                  <a:pt x="302419" y="383382"/>
                </a:lnTo>
                <a:lnTo>
                  <a:pt x="273844" y="376238"/>
                </a:lnTo>
                <a:lnTo>
                  <a:pt x="221457" y="352425"/>
                </a:lnTo>
                <a:lnTo>
                  <a:pt x="126207" y="288132"/>
                </a:lnTo>
                <a:lnTo>
                  <a:pt x="16669" y="188119"/>
                </a:lnTo>
                <a:lnTo>
                  <a:pt x="4763" y="164307"/>
                </a:lnTo>
                <a:lnTo>
                  <a:pt x="0" y="145257"/>
                </a:lnTo>
                <a:lnTo>
                  <a:pt x="2382" y="126207"/>
                </a:lnTo>
                <a:lnTo>
                  <a:pt x="9525" y="123825"/>
                </a:lnTo>
                <a:lnTo>
                  <a:pt x="26194" y="123825"/>
                </a:lnTo>
                <a:lnTo>
                  <a:pt x="59532" y="138113"/>
                </a:lnTo>
                <a:lnTo>
                  <a:pt x="130969" y="150019"/>
                </a:lnTo>
                <a:lnTo>
                  <a:pt x="307182" y="159544"/>
                </a:lnTo>
                <a:lnTo>
                  <a:pt x="411957" y="157163"/>
                </a:lnTo>
                <a:lnTo>
                  <a:pt x="664369" y="123825"/>
                </a:lnTo>
                <a:lnTo>
                  <a:pt x="852488" y="1000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10"/>
          <p:cNvSpPr/>
          <p:nvPr/>
        </p:nvSpPr>
        <p:spPr>
          <a:xfrm>
            <a:off x="3735360" y="5262480"/>
            <a:ext cx="2019240" cy="355680"/>
          </a:xfrm>
          <a:custGeom>
            <a:avLst/>
            <a:gdLst/>
            <a:ahLst/>
            <a:rect l="l" t="t" r="r" b="b"/>
            <a:pathLst>
              <a:path w="2019300" h="354806">
                <a:moveTo>
                  <a:pt x="990600" y="52387"/>
                </a:moveTo>
                <a:lnTo>
                  <a:pt x="1431132" y="19050"/>
                </a:lnTo>
                <a:lnTo>
                  <a:pt x="1674019" y="0"/>
                </a:lnTo>
                <a:lnTo>
                  <a:pt x="1769269" y="0"/>
                </a:lnTo>
                <a:lnTo>
                  <a:pt x="1840707" y="7143"/>
                </a:lnTo>
                <a:lnTo>
                  <a:pt x="1907382" y="16668"/>
                </a:lnTo>
                <a:lnTo>
                  <a:pt x="1933575" y="26193"/>
                </a:lnTo>
                <a:lnTo>
                  <a:pt x="1962150" y="45243"/>
                </a:lnTo>
                <a:lnTo>
                  <a:pt x="1985963" y="59531"/>
                </a:lnTo>
                <a:lnTo>
                  <a:pt x="2002632" y="80962"/>
                </a:lnTo>
                <a:lnTo>
                  <a:pt x="2014538" y="104775"/>
                </a:lnTo>
                <a:lnTo>
                  <a:pt x="2019300" y="126206"/>
                </a:lnTo>
                <a:lnTo>
                  <a:pt x="2019300" y="152400"/>
                </a:lnTo>
                <a:lnTo>
                  <a:pt x="2012157" y="164306"/>
                </a:lnTo>
                <a:lnTo>
                  <a:pt x="1985963" y="192881"/>
                </a:lnTo>
                <a:lnTo>
                  <a:pt x="1959769" y="200025"/>
                </a:lnTo>
                <a:lnTo>
                  <a:pt x="1866900" y="192881"/>
                </a:lnTo>
                <a:lnTo>
                  <a:pt x="1612107" y="185737"/>
                </a:lnTo>
                <a:lnTo>
                  <a:pt x="1369219" y="192881"/>
                </a:lnTo>
                <a:lnTo>
                  <a:pt x="1023938" y="219075"/>
                </a:lnTo>
                <a:lnTo>
                  <a:pt x="762000" y="257175"/>
                </a:lnTo>
                <a:lnTo>
                  <a:pt x="597694" y="283368"/>
                </a:lnTo>
                <a:lnTo>
                  <a:pt x="438150" y="326231"/>
                </a:lnTo>
                <a:lnTo>
                  <a:pt x="369094" y="352425"/>
                </a:lnTo>
                <a:lnTo>
                  <a:pt x="352425" y="354806"/>
                </a:lnTo>
                <a:lnTo>
                  <a:pt x="321469" y="347662"/>
                </a:lnTo>
                <a:lnTo>
                  <a:pt x="254794" y="316706"/>
                </a:lnTo>
                <a:lnTo>
                  <a:pt x="164307" y="259556"/>
                </a:lnTo>
                <a:lnTo>
                  <a:pt x="38100" y="171450"/>
                </a:lnTo>
                <a:lnTo>
                  <a:pt x="23813" y="152400"/>
                </a:lnTo>
                <a:lnTo>
                  <a:pt x="7144" y="116681"/>
                </a:lnTo>
                <a:lnTo>
                  <a:pt x="0" y="88106"/>
                </a:lnTo>
                <a:lnTo>
                  <a:pt x="7144" y="78581"/>
                </a:lnTo>
                <a:lnTo>
                  <a:pt x="23813" y="76200"/>
                </a:lnTo>
                <a:lnTo>
                  <a:pt x="45244" y="83343"/>
                </a:lnTo>
                <a:lnTo>
                  <a:pt x="95250" y="92868"/>
                </a:lnTo>
                <a:lnTo>
                  <a:pt x="221457" y="102393"/>
                </a:lnTo>
                <a:lnTo>
                  <a:pt x="366713" y="109537"/>
                </a:lnTo>
                <a:lnTo>
                  <a:pt x="557213" y="92868"/>
                </a:lnTo>
                <a:lnTo>
                  <a:pt x="812007" y="69056"/>
                </a:lnTo>
                <a:lnTo>
                  <a:pt x="990600" y="523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 repeatCount="100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7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8:27:06Z</dcterms:modified>
  <cp:revision>148</cp:revision>
  <dc:subject/>
  <dc:title>スライド 1</dc:title>
</cp:coreProperties>
</file>