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2F51-677F-4792-978D-E84B39850E0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6437-3FB2-476B-964B-1F3998FBD0C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380-F274-4508-A330-F69FC3DB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CCD5-7184-4942-8242-13556B7F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24D-284D-456B-B4F8-79097466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A501-F078-4703-A7A1-AB3D7F6E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D15-EA8D-4351-9998-D3AB100D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F8F7-CCF9-4641-BCC1-709DFA71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9E4-922F-4118-8E30-013C0FCB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BA8-B973-43F0-B91F-DBA95EB5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C31-3062-41C2-ADA7-CCCEC553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30BA-255C-44F8-8C13-8CFBACAA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BFAD-E5F3-426E-AB82-CC09C2CB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B5CD-F93C-418A-B275-C153A153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F82C-ADA3-4DE5-A369-EE72C69A83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3"/>
          <p:cNvSpPr/>
          <p:nvPr/>
        </p:nvSpPr>
        <p:spPr>
          <a:xfrm rot="17700000">
            <a:off x="3335040" y="3735360"/>
            <a:ext cx="2881440" cy="1385640"/>
          </a:xfrm>
          <a:custGeom>
            <a:avLst/>
            <a:gdLst/>
            <a:ahLst/>
            <a:rect l="l" t="t" r="r" b="b"/>
            <a:pathLst>
              <a:path w="2881312" h="1385887">
                <a:moveTo>
                  <a:pt x="1516856" y="785812"/>
                </a:moveTo>
                <a:lnTo>
                  <a:pt x="1940718" y="581025"/>
                </a:lnTo>
                <a:lnTo>
                  <a:pt x="2343150" y="373856"/>
                </a:lnTo>
                <a:lnTo>
                  <a:pt x="2588418" y="250031"/>
                </a:lnTo>
                <a:lnTo>
                  <a:pt x="2652712" y="216694"/>
                </a:lnTo>
                <a:lnTo>
                  <a:pt x="2683668" y="195262"/>
                </a:lnTo>
                <a:lnTo>
                  <a:pt x="2712243" y="169069"/>
                </a:lnTo>
                <a:lnTo>
                  <a:pt x="2740818" y="126206"/>
                </a:lnTo>
                <a:lnTo>
                  <a:pt x="2762250" y="85725"/>
                </a:lnTo>
                <a:lnTo>
                  <a:pt x="2776537" y="38100"/>
                </a:lnTo>
                <a:lnTo>
                  <a:pt x="2788443" y="16669"/>
                </a:lnTo>
                <a:lnTo>
                  <a:pt x="2809875" y="0"/>
                </a:lnTo>
                <a:lnTo>
                  <a:pt x="2826543" y="0"/>
                </a:lnTo>
                <a:lnTo>
                  <a:pt x="2836068" y="7144"/>
                </a:lnTo>
                <a:lnTo>
                  <a:pt x="2845593" y="26194"/>
                </a:lnTo>
                <a:lnTo>
                  <a:pt x="2855118" y="61912"/>
                </a:lnTo>
                <a:lnTo>
                  <a:pt x="2864643" y="111919"/>
                </a:lnTo>
                <a:lnTo>
                  <a:pt x="2876550" y="173831"/>
                </a:lnTo>
                <a:lnTo>
                  <a:pt x="2881312" y="219075"/>
                </a:lnTo>
                <a:cubicBezTo>
                  <a:pt x="2880518" y="238919"/>
                  <a:pt x="2879725" y="258762"/>
                  <a:pt x="2878931" y="278606"/>
                </a:cubicBezTo>
                <a:lnTo>
                  <a:pt x="2869406" y="345281"/>
                </a:lnTo>
                <a:lnTo>
                  <a:pt x="2845593" y="414337"/>
                </a:lnTo>
                <a:lnTo>
                  <a:pt x="2836068" y="428625"/>
                </a:lnTo>
                <a:lnTo>
                  <a:pt x="2788443" y="445294"/>
                </a:lnTo>
                <a:lnTo>
                  <a:pt x="2693193" y="466725"/>
                </a:lnTo>
                <a:lnTo>
                  <a:pt x="2607468" y="492919"/>
                </a:lnTo>
                <a:lnTo>
                  <a:pt x="2459831" y="554831"/>
                </a:lnTo>
                <a:lnTo>
                  <a:pt x="2183606" y="683419"/>
                </a:lnTo>
                <a:lnTo>
                  <a:pt x="1959768" y="788194"/>
                </a:lnTo>
                <a:lnTo>
                  <a:pt x="1428750" y="1040606"/>
                </a:lnTo>
                <a:lnTo>
                  <a:pt x="807243" y="1347787"/>
                </a:lnTo>
                <a:lnTo>
                  <a:pt x="728662" y="1378744"/>
                </a:lnTo>
                <a:lnTo>
                  <a:pt x="683418" y="1385887"/>
                </a:lnTo>
                <a:lnTo>
                  <a:pt x="614362" y="1381125"/>
                </a:lnTo>
                <a:lnTo>
                  <a:pt x="550068" y="1359694"/>
                </a:lnTo>
                <a:lnTo>
                  <a:pt x="407193" y="1300162"/>
                </a:lnTo>
                <a:lnTo>
                  <a:pt x="288131" y="1235869"/>
                </a:lnTo>
                <a:lnTo>
                  <a:pt x="209550" y="1166812"/>
                </a:lnTo>
                <a:lnTo>
                  <a:pt x="123825" y="1071562"/>
                </a:lnTo>
                <a:lnTo>
                  <a:pt x="73818" y="992981"/>
                </a:lnTo>
                <a:lnTo>
                  <a:pt x="35718" y="916781"/>
                </a:lnTo>
                <a:lnTo>
                  <a:pt x="0" y="850106"/>
                </a:lnTo>
                <a:lnTo>
                  <a:pt x="128587" y="802481"/>
                </a:lnTo>
                <a:lnTo>
                  <a:pt x="133350" y="816769"/>
                </a:lnTo>
                <a:lnTo>
                  <a:pt x="147637" y="845344"/>
                </a:lnTo>
                <a:lnTo>
                  <a:pt x="166687" y="881062"/>
                </a:lnTo>
                <a:lnTo>
                  <a:pt x="207168" y="942975"/>
                </a:lnTo>
                <a:lnTo>
                  <a:pt x="245268" y="988219"/>
                </a:lnTo>
                <a:lnTo>
                  <a:pt x="300037" y="1045369"/>
                </a:lnTo>
                <a:lnTo>
                  <a:pt x="347662" y="1081087"/>
                </a:lnTo>
                <a:lnTo>
                  <a:pt x="402431" y="1112044"/>
                </a:lnTo>
                <a:lnTo>
                  <a:pt x="483393" y="1150144"/>
                </a:lnTo>
                <a:lnTo>
                  <a:pt x="526256" y="1162050"/>
                </a:lnTo>
                <a:lnTo>
                  <a:pt x="583406" y="1171575"/>
                </a:lnTo>
                <a:lnTo>
                  <a:pt x="626268" y="1178719"/>
                </a:lnTo>
                <a:lnTo>
                  <a:pt x="666750" y="1173956"/>
                </a:lnTo>
                <a:lnTo>
                  <a:pt x="719137" y="1147762"/>
                </a:lnTo>
                <a:lnTo>
                  <a:pt x="814387" y="1102519"/>
                </a:lnTo>
                <a:lnTo>
                  <a:pt x="1135856" y="962025"/>
                </a:lnTo>
                <a:lnTo>
                  <a:pt x="1409700" y="838200"/>
                </a:lnTo>
                <a:lnTo>
                  <a:pt x="1516856" y="7858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5"/>
          <p:cNvSpPr/>
          <p:nvPr/>
        </p:nvSpPr>
        <p:spPr>
          <a:xfrm>
            <a:off x="3827520" y="5386320"/>
            <a:ext cx="515880" cy="409680"/>
          </a:xfrm>
          <a:custGeom>
            <a:avLst/>
            <a:gdLst/>
            <a:ahLst/>
            <a:rect l="l" t="t" r="r" b="b"/>
            <a:pathLst>
              <a:path w="516731" h="409575">
                <a:moveTo>
                  <a:pt x="307181" y="264318"/>
                </a:moveTo>
                <a:lnTo>
                  <a:pt x="392906" y="276225"/>
                </a:lnTo>
                <a:lnTo>
                  <a:pt x="445294" y="278606"/>
                </a:lnTo>
                <a:lnTo>
                  <a:pt x="483394" y="280987"/>
                </a:lnTo>
                <a:lnTo>
                  <a:pt x="516731" y="280987"/>
                </a:lnTo>
                <a:lnTo>
                  <a:pt x="507206" y="409575"/>
                </a:lnTo>
                <a:lnTo>
                  <a:pt x="471487" y="409575"/>
                </a:lnTo>
                <a:lnTo>
                  <a:pt x="421481" y="404812"/>
                </a:lnTo>
                <a:lnTo>
                  <a:pt x="354806" y="395287"/>
                </a:lnTo>
                <a:lnTo>
                  <a:pt x="300037" y="383381"/>
                </a:lnTo>
                <a:lnTo>
                  <a:pt x="250031" y="369093"/>
                </a:lnTo>
                <a:lnTo>
                  <a:pt x="204787" y="345281"/>
                </a:lnTo>
                <a:lnTo>
                  <a:pt x="161925" y="316706"/>
                </a:lnTo>
                <a:lnTo>
                  <a:pt x="111919" y="276225"/>
                </a:lnTo>
                <a:lnTo>
                  <a:pt x="69056" y="226218"/>
                </a:lnTo>
                <a:lnTo>
                  <a:pt x="47625" y="195262"/>
                </a:lnTo>
                <a:lnTo>
                  <a:pt x="23812" y="147637"/>
                </a:lnTo>
                <a:lnTo>
                  <a:pt x="9525" y="102393"/>
                </a:lnTo>
                <a:lnTo>
                  <a:pt x="0" y="47625"/>
                </a:lnTo>
                <a:lnTo>
                  <a:pt x="0" y="4762"/>
                </a:lnTo>
                <a:lnTo>
                  <a:pt x="90487" y="0"/>
                </a:lnTo>
                <a:lnTo>
                  <a:pt x="90487" y="9525"/>
                </a:lnTo>
                <a:lnTo>
                  <a:pt x="92869" y="33337"/>
                </a:lnTo>
                <a:lnTo>
                  <a:pt x="102394" y="64293"/>
                </a:lnTo>
                <a:lnTo>
                  <a:pt x="116681" y="102393"/>
                </a:lnTo>
                <a:lnTo>
                  <a:pt x="133350" y="138112"/>
                </a:lnTo>
                <a:lnTo>
                  <a:pt x="154781" y="169068"/>
                </a:lnTo>
                <a:lnTo>
                  <a:pt x="183356" y="197643"/>
                </a:lnTo>
                <a:lnTo>
                  <a:pt x="211931" y="223837"/>
                </a:lnTo>
                <a:lnTo>
                  <a:pt x="238125" y="240506"/>
                </a:lnTo>
                <a:lnTo>
                  <a:pt x="307181" y="2643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6"/>
          <p:cNvSpPr/>
          <p:nvPr/>
        </p:nvSpPr>
        <p:spPr>
          <a:xfrm>
            <a:off x="3828960" y="5057640"/>
            <a:ext cx="324000" cy="354240"/>
          </a:xfrm>
          <a:custGeom>
            <a:avLst/>
            <a:gdLst/>
            <a:ahLst/>
            <a:rect l="l" t="t" r="r" b="b"/>
            <a:pathLst>
              <a:path w="323850" h="354806">
                <a:moveTo>
                  <a:pt x="57150" y="145256"/>
                </a:moveTo>
                <a:lnTo>
                  <a:pt x="30956" y="192881"/>
                </a:lnTo>
                <a:lnTo>
                  <a:pt x="14288" y="235744"/>
                </a:lnTo>
                <a:lnTo>
                  <a:pt x="9525" y="261938"/>
                </a:lnTo>
                <a:lnTo>
                  <a:pt x="7144" y="292894"/>
                </a:lnTo>
                <a:lnTo>
                  <a:pt x="0" y="330994"/>
                </a:lnTo>
                <a:lnTo>
                  <a:pt x="0" y="354806"/>
                </a:lnTo>
                <a:lnTo>
                  <a:pt x="88106" y="352425"/>
                </a:lnTo>
                <a:lnTo>
                  <a:pt x="88106" y="309563"/>
                </a:lnTo>
                <a:lnTo>
                  <a:pt x="92869" y="276225"/>
                </a:lnTo>
                <a:lnTo>
                  <a:pt x="104775" y="240506"/>
                </a:lnTo>
                <a:lnTo>
                  <a:pt x="116681" y="214313"/>
                </a:lnTo>
                <a:lnTo>
                  <a:pt x="138113" y="178594"/>
                </a:lnTo>
                <a:lnTo>
                  <a:pt x="161925" y="150019"/>
                </a:lnTo>
                <a:lnTo>
                  <a:pt x="180975" y="138113"/>
                </a:lnTo>
                <a:lnTo>
                  <a:pt x="223838" y="121444"/>
                </a:lnTo>
                <a:lnTo>
                  <a:pt x="259556" y="114300"/>
                </a:lnTo>
                <a:lnTo>
                  <a:pt x="297656" y="111919"/>
                </a:lnTo>
                <a:lnTo>
                  <a:pt x="323850" y="114300"/>
                </a:lnTo>
                <a:lnTo>
                  <a:pt x="319088" y="0"/>
                </a:lnTo>
                <a:lnTo>
                  <a:pt x="314325" y="2381"/>
                </a:lnTo>
                <a:lnTo>
                  <a:pt x="292894" y="7144"/>
                </a:lnTo>
                <a:lnTo>
                  <a:pt x="254794" y="16669"/>
                </a:lnTo>
                <a:lnTo>
                  <a:pt x="216694" y="28575"/>
                </a:lnTo>
                <a:lnTo>
                  <a:pt x="176213" y="50006"/>
                </a:lnTo>
                <a:lnTo>
                  <a:pt x="97631" y="104775"/>
                </a:lnTo>
                <a:lnTo>
                  <a:pt x="57150" y="145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7"/>
          <p:cNvSpPr/>
          <p:nvPr/>
        </p:nvSpPr>
        <p:spPr>
          <a:xfrm>
            <a:off x="4133880" y="5059440"/>
            <a:ext cx="1905120" cy="920520"/>
          </a:xfrm>
          <a:custGeom>
            <a:avLst/>
            <a:gdLst/>
            <a:ahLst/>
            <a:rect l="l" t="t" r="r" b="b"/>
            <a:pathLst>
              <a:path w="1905000" h="919163">
                <a:moveTo>
                  <a:pt x="600075" y="283369"/>
                </a:moveTo>
                <a:lnTo>
                  <a:pt x="392906" y="202407"/>
                </a:lnTo>
                <a:lnTo>
                  <a:pt x="238125" y="150019"/>
                </a:lnTo>
                <a:lnTo>
                  <a:pt x="138113" y="126207"/>
                </a:lnTo>
                <a:lnTo>
                  <a:pt x="73819" y="114300"/>
                </a:lnTo>
                <a:lnTo>
                  <a:pt x="35719" y="109538"/>
                </a:lnTo>
                <a:lnTo>
                  <a:pt x="2381" y="107157"/>
                </a:lnTo>
                <a:cubicBezTo>
                  <a:pt x="1587" y="72232"/>
                  <a:pt x="794" y="37307"/>
                  <a:pt x="0" y="2382"/>
                </a:cubicBezTo>
                <a:lnTo>
                  <a:pt x="26194" y="2382"/>
                </a:lnTo>
                <a:lnTo>
                  <a:pt x="92869" y="0"/>
                </a:lnTo>
                <a:lnTo>
                  <a:pt x="173831" y="7144"/>
                </a:lnTo>
                <a:lnTo>
                  <a:pt x="292894" y="23813"/>
                </a:lnTo>
                <a:lnTo>
                  <a:pt x="385763" y="42863"/>
                </a:lnTo>
                <a:lnTo>
                  <a:pt x="514350" y="76200"/>
                </a:lnTo>
                <a:lnTo>
                  <a:pt x="666750" y="128588"/>
                </a:lnTo>
                <a:lnTo>
                  <a:pt x="766763" y="164307"/>
                </a:lnTo>
                <a:lnTo>
                  <a:pt x="981075" y="252413"/>
                </a:lnTo>
                <a:lnTo>
                  <a:pt x="1178719" y="340519"/>
                </a:lnTo>
                <a:lnTo>
                  <a:pt x="1457325" y="471488"/>
                </a:lnTo>
                <a:lnTo>
                  <a:pt x="1678781" y="576263"/>
                </a:lnTo>
                <a:lnTo>
                  <a:pt x="1769269" y="623888"/>
                </a:lnTo>
                <a:lnTo>
                  <a:pt x="1809750" y="650082"/>
                </a:lnTo>
                <a:lnTo>
                  <a:pt x="1843088" y="678657"/>
                </a:lnTo>
                <a:lnTo>
                  <a:pt x="1866900" y="707232"/>
                </a:lnTo>
                <a:lnTo>
                  <a:pt x="1885950" y="742950"/>
                </a:lnTo>
                <a:lnTo>
                  <a:pt x="1900238" y="778669"/>
                </a:lnTo>
                <a:lnTo>
                  <a:pt x="1905000" y="802482"/>
                </a:lnTo>
                <a:lnTo>
                  <a:pt x="1902619" y="821532"/>
                </a:lnTo>
                <a:lnTo>
                  <a:pt x="1895475" y="847725"/>
                </a:lnTo>
                <a:lnTo>
                  <a:pt x="1874044" y="885825"/>
                </a:lnTo>
                <a:lnTo>
                  <a:pt x="1843088" y="909638"/>
                </a:lnTo>
                <a:lnTo>
                  <a:pt x="1812131" y="919163"/>
                </a:lnTo>
                <a:lnTo>
                  <a:pt x="1790700" y="919163"/>
                </a:lnTo>
                <a:lnTo>
                  <a:pt x="1766888" y="912019"/>
                </a:lnTo>
                <a:lnTo>
                  <a:pt x="1712119" y="881063"/>
                </a:lnTo>
                <a:lnTo>
                  <a:pt x="1359694" y="681038"/>
                </a:lnTo>
                <a:lnTo>
                  <a:pt x="990600" y="473869"/>
                </a:lnTo>
                <a:lnTo>
                  <a:pt x="707231" y="328613"/>
                </a:lnTo>
                <a:lnTo>
                  <a:pt x="657225" y="307182"/>
                </a:lnTo>
                <a:lnTo>
                  <a:pt x="600075" y="2833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フリーフォーム 8"/>
          <p:cNvSpPr/>
          <p:nvPr/>
        </p:nvSpPr>
        <p:spPr>
          <a:xfrm>
            <a:off x="5052960" y="3652920"/>
            <a:ext cx="876240" cy="314280"/>
          </a:xfrm>
          <a:custGeom>
            <a:avLst/>
            <a:gdLst/>
            <a:ahLst/>
            <a:rect l="l" t="t" r="r" b="b"/>
            <a:pathLst>
              <a:path w="876300" h="314325">
                <a:moveTo>
                  <a:pt x="488156" y="269081"/>
                </a:moveTo>
                <a:lnTo>
                  <a:pt x="628650" y="235743"/>
                </a:lnTo>
                <a:lnTo>
                  <a:pt x="781050" y="185737"/>
                </a:lnTo>
                <a:lnTo>
                  <a:pt x="847725" y="159543"/>
                </a:lnTo>
                <a:lnTo>
                  <a:pt x="864393" y="145256"/>
                </a:lnTo>
                <a:lnTo>
                  <a:pt x="871537" y="128587"/>
                </a:lnTo>
                <a:lnTo>
                  <a:pt x="876300" y="107156"/>
                </a:lnTo>
                <a:lnTo>
                  <a:pt x="869156" y="85725"/>
                </a:lnTo>
                <a:lnTo>
                  <a:pt x="854868" y="69056"/>
                </a:lnTo>
                <a:lnTo>
                  <a:pt x="828675" y="54768"/>
                </a:lnTo>
                <a:lnTo>
                  <a:pt x="759618" y="26193"/>
                </a:lnTo>
                <a:lnTo>
                  <a:pt x="683418" y="7143"/>
                </a:lnTo>
                <a:lnTo>
                  <a:pt x="633412" y="0"/>
                </a:lnTo>
                <a:lnTo>
                  <a:pt x="600075" y="16668"/>
                </a:lnTo>
                <a:lnTo>
                  <a:pt x="497681" y="66675"/>
                </a:lnTo>
                <a:lnTo>
                  <a:pt x="431006" y="100012"/>
                </a:lnTo>
                <a:lnTo>
                  <a:pt x="402431" y="114300"/>
                </a:lnTo>
                <a:lnTo>
                  <a:pt x="354806" y="128587"/>
                </a:lnTo>
                <a:lnTo>
                  <a:pt x="280987" y="145256"/>
                </a:lnTo>
                <a:lnTo>
                  <a:pt x="197643" y="157162"/>
                </a:lnTo>
                <a:lnTo>
                  <a:pt x="121443" y="161925"/>
                </a:lnTo>
                <a:lnTo>
                  <a:pt x="64293" y="159543"/>
                </a:lnTo>
                <a:lnTo>
                  <a:pt x="0" y="147637"/>
                </a:lnTo>
                <a:lnTo>
                  <a:pt x="7143" y="259556"/>
                </a:lnTo>
                <a:lnTo>
                  <a:pt x="7143" y="264318"/>
                </a:lnTo>
                <a:lnTo>
                  <a:pt x="59531" y="280987"/>
                </a:lnTo>
                <a:lnTo>
                  <a:pt x="116681" y="300037"/>
                </a:lnTo>
                <a:lnTo>
                  <a:pt x="154781" y="314325"/>
                </a:lnTo>
                <a:lnTo>
                  <a:pt x="183356" y="311943"/>
                </a:lnTo>
                <a:lnTo>
                  <a:pt x="330993" y="300037"/>
                </a:lnTo>
                <a:lnTo>
                  <a:pt x="428625" y="280987"/>
                </a:lnTo>
                <a:lnTo>
                  <a:pt x="488156" y="2690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2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 repeatCount="1000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 repeatCount="1000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8:33:00Z</dcterms:modified>
  <cp:revision>153</cp:revision>
  <dc:subject/>
  <dc:title>スライド 1</dc:title>
</cp:coreProperties>
</file>