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079D-5220-4ED9-BEEA-5D0C829219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9DFC-1F82-4790-A350-84DEE115EF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B15-8D78-41F6-8DEF-2E1021C9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CAB-FF15-4166-9085-8767761B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5CC-4607-4727-91D8-8882D3D7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D30-CDB1-4378-B652-E1D25F53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D09-FCF9-4CA5-8DA4-CC753EC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2D8-07F5-4763-B5AA-1A3777C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125-2DF5-4F29-BD20-CCA61AE9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645-312F-449E-9DE0-FF8146E2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5DB-27E7-4343-B9BA-8729C661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483-BA70-45D8-96CE-50D1306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89E-0380-4367-9B0F-3AEEC9CD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6CA-7B12-424D-83F0-8677D51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3436-0A5B-45A3-B12E-CA92A3E211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5467320" y="3776760"/>
            <a:ext cx="851040" cy="736560"/>
          </a:xfrm>
          <a:custGeom>
            <a:avLst/>
            <a:gdLst/>
            <a:ahLst/>
            <a:rect l="l" t="t" r="r" b="b"/>
            <a:pathLst>
              <a:path w="850106" h="735806">
                <a:moveTo>
                  <a:pt x="464344" y="0"/>
                </a:moveTo>
                <a:lnTo>
                  <a:pt x="850106" y="7143"/>
                </a:lnTo>
                <a:lnTo>
                  <a:pt x="847725" y="26193"/>
                </a:lnTo>
                <a:lnTo>
                  <a:pt x="835819" y="45243"/>
                </a:lnTo>
                <a:lnTo>
                  <a:pt x="819150" y="59531"/>
                </a:lnTo>
                <a:lnTo>
                  <a:pt x="797719" y="66675"/>
                </a:lnTo>
                <a:lnTo>
                  <a:pt x="762000" y="73818"/>
                </a:lnTo>
                <a:lnTo>
                  <a:pt x="742950" y="83343"/>
                </a:lnTo>
                <a:lnTo>
                  <a:pt x="507206" y="323850"/>
                </a:lnTo>
                <a:lnTo>
                  <a:pt x="359569" y="469106"/>
                </a:lnTo>
                <a:lnTo>
                  <a:pt x="197644" y="611981"/>
                </a:lnTo>
                <a:lnTo>
                  <a:pt x="76200" y="709612"/>
                </a:lnTo>
                <a:lnTo>
                  <a:pt x="54769" y="723900"/>
                </a:lnTo>
                <a:lnTo>
                  <a:pt x="33338" y="733425"/>
                </a:lnTo>
                <a:lnTo>
                  <a:pt x="16669" y="735806"/>
                </a:lnTo>
                <a:lnTo>
                  <a:pt x="7144" y="735806"/>
                </a:lnTo>
                <a:lnTo>
                  <a:pt x="0" y="728662"/>
                </a:lnTo>
                <a:lnTo>
                  <a:pt x="4763" y="697706"/>
                </a:lnTo>
                <a:lnTo>
                  <a:pt x="26194" y="664368"/>
                </a:lnTo>
                <a:lnTo>
                  <a:pt x="114300" y="559593"/>
                </a:lnTo>
                <a:lnTo>
                  <a:pt x="207169" y="438150"/>
                </a:lnTo>
                <a:lnTo>
                  <a:pt x="311944" y="288131"/>
                </a:lnTo>
                <a:lnTo>
                  <a:pt x="428625" y="97631"/>
                </a:lnTo>
                <a:lnTo>
                  <a:pt x="461963" y="38100"/>
                </a:lnTo>
                <a:lnTo>
                  <a:pt x="471488" y="9525"/>
                </a:lnTo>
                <a:lnTo>
                  <a:pt x="4643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3448080" y="3571920"/>
            <a:ext cx="2870280" cy="1020600"/>
          </a:xfrm>
          <a:custGeom>
            <a:avLst/>
            <a:gdLst/>
            <a:ahLst/>
            <a:rect l="l" t="t" r="r" b="b"/>
            <a:pathLst>
              <a:path w="2869406" h="1021556">
                <a:moveTo>
                  <a:pt x="788194" y="626269"/>
                </a:moveTo>
                <a:lnTo>
                  <a:pt x="1050131" y="540544"/>
                </a:lnTo>
                <a:lnTo>
                  <a:pt x="1326356" y="438150"/>
                </a:lnTo>
                <a:lnTo>
                  <a:pt x="2219325" y="128588"/>
                </a:lnTo>
                <a:lnTo>
                  <a:pt x="2412206" y="66675"/>
                </a:lnTo>
                <a:lnTo>
                  <a:pt x="2440781" y="57150"/>
                </a:lnTo>
                <a:lnTo>
                  <a:pt x="2478881" y="33338"/>
                </a:lnTo>
                <a:lnTo>
                  <a:pt x="2528888" y="9525"/>
                </a:lnTo>
                <a:lnTo>
                  <a:pt x="2566988" y="0"/>
                </a:lnTo>
                <a:lnTo>
                  <a:pt x="2600325" y="0"/>
                </a:lnTo>
                <a:lnTo>
                  <a:pt x="2628900" y="4763"/>
                </a:lnTo>
                <a:lnTo>
                  <a:pt x="2662238" y="30956"/>
                </a:lnTo>
                <a:lnTo>
                  <a:pt x="2845594" y="178594"/>
                </a:lnTo>
                <a:lnTo>
                  <a:pt x="2862263" y="192881"/>
                </a:lnTo>
                <a:lnTo>
                  <a:pt x="2869406" y="211931"/>
                </a:lnTo>
                <a:lnTo>
                  <a:pt x="2867025" y="230981"/>
                </a:lnTo>
                <a:lnTo>
                  <a:pt x="2490788" y="214313"/>
                </a:lnTo>
                <a:lnTo>
                  <a:pt x="2483644" y="204788"/>
                </a:lnTo>
                <a:lnTo>
                  <a:pt x="2474119" y="197644"/>
                </a:lnTo>
                <a:lnTo>
                  <a:pt x="2452688" y="195263"/>
                </a:lnTo>
                <a:lnTo>
                  <a:pt x="2409825" y="216694"/>
                </a:lnTo>
                <a:lnTo>
                  <a:pt x="2033588" y="350044"/>
                </a:lnTo>
                <a:lnTo>
                  <a:pt x="1323975" y="607219"/>
                </a:lnTo>
                <a:lnTo>
                  <a:pt x="1035844" y="716756"/>
                </a:lnTo>
                <a:lnTo>
                  <a:pt x="547688" y="916781"/>
                </a:lnTo>
                <a:lnTo>
                  <a:pt x="519113" y="928688"/>
                </a:lnTo>
                <a:lnTo>
                  <a:pt x="469106" y="959644"/>
                </a:lnTo>
                <a:lnTo>
                  <a:pt x="381000" y="1007269"/>
                </a:lnTo>
                <a:lnTo>
                  <a:pt x="359569" y="1021556"/>
                </a:lnTo>
                <a:lnTo>
                  <a:pt x="328613" y="1016794"/>
                </a:lnTo>
                <a:lnTo>
                  <a:pt x="197644" y="959644"/>
                </a:lnTo>
                <a:lnTo>
                  <a:pt x="90488" y="892969"/>
                </a:lnTo>
                <a:lnTo>
                  <a:pt x="23813" y="842963"/>
                </a:lnTo>
                <a:lnTo>
                  <a:pt x="4763" y="812006"/>
                </a:lnTo>
                <a:lnTo>
                  <a:pt x="0" y="795338"/>
                </a:lnTo>
                <a:lnTo>
                  <a:pt x="4763" y="781050"/>
                </a:lnTo>
                <a:lnTo>
                  <a:pt x="19050" y="773906"/>
                </a:lnTo>
                <a:lnTo>
                  <a:pt x="47625" y="776288"/>
                </a:lnTo>
                <a:lnTo>
                  <a:pt x="97631" y="788194"/>
                </a:lnTo>
                <a:lnTo>
                  <a:pt x="171450" y="795338"/>
                </a:lnTo>
                <a:lnTo>
                  <a:pt x="254794" y="790575"/>
                </a:lnTo>
                <a:lnTo>
                  <a:pt x="347663" y="773906"/>
                </a:lnTo>
                <a:lnTo>
                  <a:pt x="481013" y="733425"/>
                </a:lnTo>
                <a:lnTo>
                  <a:pt x="616744" y="688181"/>
                </a:lnTo>
                <a:lnTo>
                  <a:pt x="695325" y="657225"/>
                </a:lnTo>
                <a:lnTo>
                  <a:pt x="788194" y="626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2700000">
            <a:off x="3366720" y="3710160"/>
            <a:ext cx="2685960" cy="1377720"/>
          </a:xfrm>
          <a:custGeom>
            <a:avLst/>
            <a:gdLst/>
            <a:ahLst/>
            <a:rect l="l" t="t" r="r" b="b"/>
            <a:pathLst>
              <a:path w="2686050" h="1378743">
                <a:moveTo>
                  <a:pt x="661988" y="435768"/>
                </a:moveTo>
                <a:lnTo>
                  <a:pt x="981075" y="602456"/>
                </a:lnTo>
                <a:lnTo>
                  <a:pt x="1221581" y="735806"/>
                </a:lnTo>
                <a:lnTo>
                  <a:pt x="1921669" y="1114425"/>
                </a:lnTo>
                <a:lnTo>
                  <a:pt x="2081213" y="1200150"/>
                </a:lnTo>
                <a:lnTo>
                  <a:pt x="2131219" y="1226343"/>
                </a:lnTo>
                <a:lnTo>
                  <a:pt x="2176463" y="1259681"/>
                </a:lnTo>
                <a:lnTo>
                  <a:pt x="2224088" y="1300162"/>
                </a:lnTo>
                <a:lnTo>
                  <a:pt x="2252663" y="1328737"/>
                </a:lnTo>
                <a:lnTo>
                  <a:pt x="2281238" y="1347787"/>
                </a:lnTo>
                <a:lnTo>
                  <a:pt x="2326481" y="1364456"/>
                </a:lnTo>
                <a:lnTo>
                  <a:pt x="2366963" y="1373981"/>
                </a:lnTo>
                <a:lnTo>
                  <a:pt x="2405063" y="1378743"/>
                </a:lnTo>
                <a:lnTo>
                  <a:pt x="2459831" y="1376362"/>
                </a:lnTo>
                <a:lnTo>
                  <a:pt x="2536031" y="1376362"/>
                </a:lnTo>
                <a:lnTo>
                  <a:pt x="2593181" y="1369218"/>
                </a:lnTo>
                <a:lnTo>
                  <a:pt x="2633663" y="1359693"/>
                </a:lnTo>
                <a:lnTo>
                  <a:pt x="2667000" y="1340643"/>
                </a:lnTo>
                <a:lnTo>
                  <a:pt x="2683669" y="1321593"/>
                </a:lnTo>
                <a:lnTo>
                  <a:pt x="2686050" y="1304925"/>
                </a:lnTo>
                <a:lnTo>
                  <a:pt x="2671763" y="1273968"/>
                </a:lnTo>
                <a:lnTo>
                  <a:pt x="2643188" y="1243012"/>
                </a:lnTo>
                <a:lnTo>
                  <a:pt x="2593181" y="1214437"/>
                </a:lnTo>
                <a:lnTo>
                  <a:pt x="2266950" y="1045368"/>
                </a:lnTo>
                <a:lnTo>
                  <a:pt x="1654969" y="735806"/>
                </a:lnTo>
                <a:lnTo>
                  <a:pt x="1240631" y="526256"/>
                </a:lnTo>
                <a:lnTo>
                  <a:pt x="1023938" y="404812"/>
                </a:lnTo>
                <a:lnTo>
                  <a:pt x="571500" y="138112"/>
                </a:lnTo>
                <a:lnTo>
                  <a:pt x="495300" y="95250"/>
                </a:lnTo>
                <a:lnTo>
                  <a:pt x="438150" y="52387"/>
                </a:lnTo>
                <a:lnTo>
                  <a:pt x="400050" y="16668"/>
                </a:lnTo>
                <a:lnTo>
                  <a:pt x="383381" y="4762"/>
                </a:lnTo>
                <a:lnTo>
                  <a:pt x="359569" y="0"/>
                </a:lnTo>
                <a:lnTo>
                  <a:pt x="323850" y="4762"/>
                </a:lnTo>
                <a:lnTo>
                  <a:pt x="252413" y="30956"/>
                </a:lnTo>
                <a:lnTo>
                  <a:pt x="169069" y="73818"/>
                </a:lnTo>
                <a:lnTo>
                  <a:pt x="80963" y="130968"/>
                </a:lnTo>
                <a:lnTo>
                  <a:pt x="23813" y="176212"/>
                </a:lnTo>
                <a:lnTo>
                  <a:pt x="7144" y="204787"/>
                </a:lnTo>
                <a:lnTo>
                  <a:pt x="0" y="226218"/>
                </a:lnTo>
                <a:lnTo>
                  <a:pt x="2381" y="240506"/>
                </a:lnTo>
                <a:lnTo>
                  <a:pt x="11906" y="257175"/>
                </a:lnTo>
                <a:lnTo>
                  <a:pt x="28575" y="261937"/>
                </a:lnTo>
                <a:lnTo>
                  <a:pt x="54769" y="266700"/>
                </a:lnTo>
                <a:lnTo>
                  <a:pt x="85725" y="254793"/>
                </a:lnTo>
                <a:lnTo>
                  <a:pt x="135731" y="240506"/>
                </a:lnTo>
                <a:lnTo>
                  <a:pt x="176213" y="233362"/>
                </a:lnTo>
                <a:lnTo>
                  <a:pt x="223838" y="233362"/>
                </a:lnTo>
                <a:lnTo>
                  <a:pt x="280988" y="242887"/>
                </a:lnTo>
                <a:lnTo>
                  <a:pt x="333375" y="261937"/>
                </a:lnTo>
                <a:lnTo>
                  <a:pt x="414338" y="307181"/>
                </a:lnTo>
                <a:lnTo>
                  <a:pt x="661988" y="4357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20:12Z</dcterms:modified>
  <cp:revision>149</cp:revision>
  <dc:subject/>
  <dc:title>スライド 1</dc:title>
</cp:coreProperties>
</file>