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8218D-F1A5-4A38-91AA-97742E53FE1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98DF8-308B-4DA5-96B5-7E90AF9DD83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AFB3-D0B4-4CB9-A17E-D913DDEB9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AD15-1B01-4510-A190-F53C497AA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9BCB-032E-4257-AED2-85DFBAD1D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B412-D14F-48B9-804F-BB6DCFC73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1636-CFCE-432C-A08A-8C6E4D087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B834-5CAB-4E02-A113-32D7A113C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AD9F-2864-4AC3-8436-5320A6627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72C4-0193-4E25-A20C-2976075E1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332D-2F1B-4523-AF20-4DF9B8933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272C-4464-4B60-9928-EB1FA16C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CA1E-47A5-4E81-850D-69802169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65B2-7365-40C6-94F0-3901622A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40D67-4848-4361-8236-632DD736311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テキスト ボックス 30" descr=""/>
          <p:cNvPicPr/>
          <p:nvPr/>
        </p:nvPicPr>
        <p:blipFill>
          <a:blip r:embed="rId1"/>
          <a:stretch/>
        </p:blipFill>
        <p:spPr>
          <a:xfrm>
            <a:off x="-1359000" y="-1805040"/>
            <a:ext cx="12569760" cy="11996640"/>
          </a:xfrm>
          <a:prstGeom prst="rect">
            <a:avLst/>
          </a:prstGeom>
          <a:ln w="0">
            <a:noFill/>
          </a:ln>
        </p:spPr>
      </p:pic>
      <p:sp>
        <p:nvSpPr>
          <p:cNvPr id="49" name="フリーフォーム 2"/>
          <p:cNvSpPr/>
          <p:nvPr/>
        </p:nvSpPr>
        <p:spPr>
          <a:xfrm rot="16200000">
            <a:off x="3000960" y="4182120"/>
            <a:ext cx="2022480" cy="934920"/>
          </a:xfrm>
          <a:custGeom>
            <a:avLst/>
            <a:gdLst/>
            <a:ahLst/>
            <a:rect l="l" t="t" r="r" b="b"/>
            <a:pathLst>
              <a:path w="2021682" h="935832">
                <a:moveTo>
                  <a:pt x="1314450" y="126207"/>
                </a:moveTo>
                <a:lnTo>
                  <a:pt x="1509713" y="92869"/>
                </a:lnTo>
                <a:lnTo>
                  <a:pt x="1771650" y="59532"/>
                </a:lnTo>
                <a:lnTo>
                  <a:pt x="1902619" y="42863"/>
                </a:lnTo>
                <a:lnTo>
                  <a:pt x="1924050" y="40482"/>
                </a:lnTo>
                <a:lnTo>
                  <a:pt x="1947863" y="26194"/>
                </a:lnTo>
                <a:lnTo>
                  <a:pt x="1988344" y="2382"/>
                </a:lnTo>
                <a:lnTo>
                  <a:pt x="2007394" y="0"/>
                </a:lnTo>
                <a:lnTo>
                  <a:pt x="2019300" y="4763"/>
                </a:lnTo>
                <a:lnTo>
                  <a:pt x="2021682" y="11907"/>
                </a:lnTo>
                <a:lnTo>
                  <a:pt x="2019300" y="26194"/>
                </a:lnTo>
                <a:lnTo>
                  <a:pt x="2000250" y="52388"/>
                </a:lnTo>
                <a:lnTo>
                  <a:pt x="1935957" y="114300"/>
                </a:lnTo>
                <a:lnTo>
                  <a:pt x="1866900" y="173832"/>
                </a:lnTo>
                <a:lnTo>
                  <a:pt x="1814513" y="209550"/>
                </a:lnTo>
                <a:lnTo>
                  <a:pt x="1793082" y="216694"/>
                </a:lnTo>
                <a:lnTo>
                  <a:pt x="1743075" y="223838"/>
                </a:lnTo>
                <a:lnTo>
                  <a:pt x="1588294" y="242888"/>
                </a:lnTo>
                <a:lnTo>
                  <a:pt x="1478757" y="261938"/>
                </a:lnTo>
                <a:lnTo>
                  <a:pt x="1297782" y="288132"/>
                </a:lnTo>
                <a:lnTo>
                  <a:pt x="1102519" y="326232"/>
                </a:lnTo>
                <a:lnTo>
                  <a:pt x="935832" y="369094"/>
                </a:lnTo>
                <a:lnTo>
                  <a:pt x="826294" y="407194"/>
                </a:lnTo>
                <a:lnTo>
                  <a:pt x="709613" y="464344"/>
                </a:lnTo>
                <a:lnTo>
                  <a:pt x="607219" y="533400"/>
                </a:lnTo>
                <a:lnTo>
                  <a:pt x="509588" y="614363"/>
                </a:lnTo>
                <a:lnTo>
                  <a:pt x="442913" y="685800"/>
                </a:lnTo>
                <a:lnTo>
                  <a:pt x="409575" y="719138"/>
                </a:lnTo>
                <a:lnTo>
                  <a:pt x="397669" y="735807"/>
                </a:lnTo>
                <a:lnTo>
                  <a:pt x="390525" y="759619"/>
                </a:lnTo>
                <a:lnTo>
                  <a:pt x="392907" y="776288"/>
                </a:lnTo>
                <a:lnTo>
                  <a:pt x="76200" y="933450"/>
                </a:lnTo>
                <a:lnTo>
                  <a:pt x="64294" y="935832"/>
                </a:lnTo>
                <a:lnTo>
                  <a:pt x="35719" y="926307"/>
                </a:lnTo>
                <a:lnTo>
                  <a:pt x="21432" y="916782"/>
                </a:lnTo>
                <a:lnTo>
                  <a:pt x="7144" y="904875"/>
                </a:lnTo>
                <a:lnTo>
                  <a:pt x="0" y="878682"/>
                </a:lnTo>
                <a:lnTo>
                  <a:pt x="9525" y="852488"/>
                </a:lnTo>
                <a:lnTo>
                  <a:pt x="40482" y="807244"/>
                </a:lnTo>
                <a:lnTo>
                  <a:pt x="88107" y="750094"/>
                </a:lnTo>
                <a:lnTo>
                  <a:pt x="161925" y="666750"/>
                </a:lnTo>
                <a:lnTo>
                  <a:pt x="223838" y="607219"/>
                </a:lnTo>
                <a:lnTo>
                  <a:pt x="304800" y="538163"/>
                </a:lnTo>
                <a:lnTo>
                  <a:pt x="395288" y="471488"/>
                </a:lnTo>
                <a:lnTo>
                  <a:pt x="502444" y="404813"/>
                </a:lnTo>
                <a:lnTo>
                  <a:pt x="581025" y="359569"/>
                </a:lnTo>
                <a:lnTo>
                  <a:pt x="650082" y="326232"/>
                </a:lnTo>
                <a:lnTo>
                  <a:pt x="769144" y="273844"/>
                </a:lnTo>
                <a:lnTo>
                  <a:pt x="871538" y="230982"/>
                </a:lnTo>
                <a:lnTo>
                  <a:pt x="971550" y="202407"/>
                </a:lnTo>
                <a:lnTo>
                  <a:pt x="1150144" y="159544"/>
                </a:lnTo>
                <a:lnTo>
                  <a:pt x="1233488" y="140494"/>
                </a:lnTo>
                <a:lnTo>
                  <a:pt x="1314450" y="12620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フリーフォーム 3"/>
          <p:cNvSpPr/>
          <p:nvPr/>
        </p:nvSpPr>
        <p:spPr>
          <a:xfrm rot="16200000">
            <a:off x="4097160" y="5159520"/>
            <a:ext cx="655920" cy="242640"/>
          </a:xfrm>
          <a:custGeom>
            <a:avLst/>
            <a:gdLst/>
            <a:ahLst/>
            <a:rect l="l" t="t" r="r" b="b"/>
            <a:pathLst>
              <a:path w="654844" h="243116">
                <a:moveTo>
                  <a:pt x="531019" y="140494"/>
                </a:moveTo>
                <a:lnTo>
                  <a:pt x="433387" y="88106"/>
                </a:lnTo>
                <a:lnTo>
                  <a:pt x="357187" y="47625"/>
                </a:lnTo>
                <a:lnTo>
                  <a:pt x="342900" y="35719"/>
                </a:lnTo>
                <a:lnTo>
                  <a:pt x="340519" y="26194"/>
                </a:lnTo>
                <a:lnTo>
                  <a:pt x="338137" y="16669"/>
                </a:lnTo>
                <a:lnTo>
                  <a:pt x="338137" y="0"/>
                </a:lnTo>
                <a:lnTo>
                  <a:pt x="0" y="169069"/>
                </a:lnTo>
                <a:lnTo>
                  <a:pt x="21431" y="176213"/>
                </a:lnTo>
                <a:lnTo>
                  <a:pt x="52387" y="173831"/>
                </a:lnTo>
                <a:lnTo>
                  <a:pt x="126206" y="164306"/>
                </a:lnTo>
                <a:lnTo>
                  <a:pt x="214312" y="161925"/>
                </a:lnTo>
                <a:lnTo>
                  <a:pt x="276225" y="169069"/>
                </a:lnTo>
                <a:lnTo>
                  <a:pt x="378619" y="185738"/>
                </a:lnTo>
                <a:lnTo>
                  <a:pt x="454819" y="200025"/>
                </a:lnTo>
                <a:lnTo>
                  <a:pt x="564356" y="228600"/>
                </a:lnTo>
                <a:cubicBezTo>
                  <a:pt x="612741" y="243116"/>
                  <a:pt x="595407" y="242888"/>
                  <a:pt x="614362" y="242888"/>
                </a:cubicBezTo>
                <a:lnTo>
                  <a:pt x="633412" y="242888"/>
                </a:lnTo>
                <a:lnTo>
                  <a:pt x="652462" y="230981"/>
                </a:lnTo>
                <a:lnTo>
                  <a:pt x="654844" y="219075"/>
                </a:lnTo>
                <a:lnTo>
                  <a:pt x="642937" y="202406"/>
                </a:lnTo>
                <a:lnTo>
                  <a:pt x="611981" y="183356"/>
                </a:lnTo>
                <a:lnTo>
                  <a:pt x="531019" y="14049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フリーフォーム 4"/>
          <p:cNvSpPr/>
          <p:nvPr/>
        </p:nvSpPr>
        <p:spPr>
          <a:xfrm rot="16200000">
            <a:off x="5229000" y="3877920"/>
            <a:ext cx="1419480" cy="917640"/>
          </a:xfrm>
          <a:custGeom>
            <a:avLst/>
            <a:gdLst/>
            <a:ahLst/>
            <a:rect l="l" t="t" r="r" b="b"/>
            <a:pathLst>
              <a:path w="1419225" h="916781">
                <a:moveTo>
                  <a:pt x="1102519" y="502443"/>
                </a:moveTo>
                <a:lnTo>
                  <a:pt x="1159669" y="440531"/>
                </a:lnTo>
                <a:lnTo>
                  <a:pt x="1219200" y="371475"/>
                </a:lnTo>
                <a:lnTo>
                  <a:pt x="1269206" y="302418"/>
                </a:lnTo>
                <a:lnTo>
                  <a:pt x="1345406" y="188118"/>
                </a:lnTo>
                <a:lnTo>
                  <a:pt x="1393031" y="114300"/>
                </a:lnTo>
                <a:lnTo>
                  <a:pt x="1414462" y="73818"/>
                </a:lnTo>
                <a:lnTo>
                  <a:pt x="1419225" y="52387"/>
                </a:lnTo>
                <a:lnTo>
                  <a:pt x="1419225" y="21431"/>
                </a:lnTo>
                <a:lnTo>
                  <a:pt x="1409700" y="7143"/>
                </a:lnTo>
                <a:lnTo>
                  <a:pt x="1400175" y="0"/>
                </a:lnTo>
                <a:lnTo>
                  <a:pt x="1388269" y="4762"/>
                </a:lnTo>
                <a:lnTo>
                  <a:pt x="1359694" y="35718"/>
                </a:lnTo>
                <a:lnTo>
                  <a:pt x="1288256" y="121443"/>
                </a:lnTo>
                <a:lnTo>
                  <a:pt x="1207294" y="204787"/>
                </a:lnTo>
                <a:lnTo>
                  <a:pt x="1095375" y="307181"/>
                </a:lnTo>
                <a:lnTo>
                  <a:pt x="990600" y="388143"/>
                </a:lnTo>
                <a:lnTo>
                  <a:pt x="892969" y="452437"/>
                </a:lnTo>
                <a:lnTo>
                  <a:pt x="759619" y="523875"/>
                </a:lnTo>
                <a:lnTo>
                  <a:pt x="640556" y="576262"/>
                </a:lnTo>
                <a:lnTo>
                  <a:pt x="540544" y="609600"/>
                </a:lnTo>
                <a:lnTo>
                  <a:pt x="378619" y="650081"/>
                </a:lnTo>
                <a:lnTo>
                  <a:pt x="266700" y="664368"/>
                </a:lnTo>
                <a:lnTo>
                  <a:pt x="202406" y="669131"/>
                </a:lnTo>
                <a:lnTo>
                  <a:pt x="185737" y="673893"/>
                </a:lnTo>
                <a:lnTo>
                  <a:pt x="159544" y="683418"/>
                </a:lnTo>
                <a:lnTo>
                  <a:pt x="114300" y="714375"/>
                </a:lnTo>
                <a:lnTo>
                  <a:pt x="57150" y="754856"/>
                </a:lnTo>
                <a:lnTo>
                  <a:pt x="21431" y="795337"/>
                </a:lnTo>
                <a:lnTo>
                  <a:pt x="4762" y="821531"/>
                </a:lnTo>
                <a:lnTo>
                  <a:pt x="0" y="835818"/>
                </a:lnTo>
                <a:lnTo>
                  <a:pt x="0" y="847725"/>
                </a:lnTo>
                <a:lnTo>
                  <a:pt x="2381" y="869156"/>
                </a:lnTo>
                <a:lnTo>
                  <a:pt x="11906" y="885825"/>
                </a:lnTo>
                <a:lnTo>
                  <a:pt x="35719" y="897731"/>
                </a:lnTo>
                <a:lnTo>
                  <a:pt x="76200" y="909637"/>
                </a:lnTo>
                <a:lnTo>
                  <a:pt x="114300" y="914400"/>
                </a:lnTo>
                <a:lnTo>
                  <a:pt x="161925" y="914400"/>
                </a:lnTo>
                <a:lnTo>
                  <a:pt x="247650" y="916781"/>
                </a:lnTo>
                <a:lnTo>
                  <a:pt x="328612" y="909637"/>
                </a:lnTo>
                <a:lnTo>
                  <a:pt x="400050" y="900112"/>
                </a:lnTo>
                <a:lnTo>
                  <a:pt x="516731" y="873918"/>
                </a:lnTo>
                <a:lnTo>
                  <a:pt x="609600" y="840581"/>
                </a:lnTo>
                <a:lnTo>
                  <a:pt x="709612" y="797718"/>
                </a:lnTo>
                <a:lnTo>
                  <a:pt x="845344" y="719137"/>
                </a:lnTo>
                <a:lnTo>
                  <a:pt x="954881" y="640556"/>
                </a:lnTo>
                <a:lnTo>
                  <a:pt x="1040606" y="566737"/>
                </a:lnTo>
                <a:lnTo>
                  <a:pt x="1102519" y="5024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 repeatCount="1000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07:37:16Z</dcterms:created>
  <dc:creator/>
  <dc:description/>
  <dc:language>en-US</dc:language>
  <cp:lastModifiedBy>ASADA</cp:lastModifiedBy>
  <dcterms:modified xsi:type="dcterms:W3CDTF">2020-09-27T11:12:07Z</dcterms:modified>
  <cp:revision>149</cp:revision>
  <dc:subject/>
  <dc:title>スライド 1</dc:title>
</cp:coreProperties>
</file>