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6BDE-6EE2-4DCD-9974-570D3C882E9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86AC-5F9D-4B3D-9DE8-316A0DA18D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AC7-920A-40E1-8FD6-6DF9EF07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195-E333-4088-BBB1-702C2D92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3DD-F34D-4E6F-8BED-3E514BC1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961-A52B-4EF3-8348-B956DB79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E8D-0E0C-4787-98E3-D5475FA1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C87-357F-4A37-9332-B7A7DE2E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EFD-DBF5-4E86-BCC3-AE1BEEF7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731-3AFA-43F8-9768-D7501F69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AA0-4B92-4F88-A697-CD03ADBB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2B8-4560-469F-AB14-B8B4ACCA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54B-1146-43B5-AE68-AA87DF1E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66D-467D-4569-B880-1477842E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497D-6391-4E2C-B1D7-A582188CA4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1951200" y="-139680"/>
            <a:ext cx="5979960" cy="701676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1"/>
          <p:cNvSpPr/>
          <p:nvPr/>
        </p:nvSpPr>
        <p:spPr>
          <a:xfrm>
            <a:off x="2954160" y="4703760"/>
            <a:ext cx="970200" cy="1432080"/>
          </a:xfrm>
          <a:custGeom>
            <a:avLst/>
            <a:gdLst/>
            <a:ahLst/>
            <a:rect l="l" t="t" r="r" b="b"/>
            <a:pathLst>
              <a:path w="971836" h="1432790">
                <a:moveTo>
                  <a:pt x="60294" y="210198"/>
                </a:moveTo>
                <a:lnTo>
                  <a:pt x="0" y="40848"/>
                </a:lnTo>
                <a:cubicBezTo>
                  <a:pt x="58827" y="22105"/>
                  <a:pt x="183484" y="-4224"/>
                  <a:pt x="278813" y="575"/>
                </a:cubicBezTo>
                <a:cubicBezTo>
                  <a:pt x="374142" y="5374"/>
                  <a:pt x="445682" y="12077"/>
                  <a:pt x="571977" y="69640"/>
                </a:cubicBezTo>
                <a:cubicBezTo>
                  <a:pt x="648691" y="115772"/>
                  <a:pt x="682498" y="113327"/>
                  <a:pt x="796398" y="239471"/>
                </a:cubicBezTo>
                <a:cubicBezTo>
                  <a:pt x="861096" y="321422"/>
                  <a:pt x="948194" y="459132"/>
                  <a:pt x="963026" y="595636"/>
                </a:cubicBezTo>
                <a:cubicBezTo>
                  <a:pt x="977858" y="732141"/>
                  <a:pt x="985864" y="869450"/>
                  <a:pt x="885388" y="1058498"/>
                </a:cubicBezTo>
                <a:cubicBezTo>
                  <a:pt x="847841" y="1153246"/>
                  <a:pt x="767389" y="1210843"/>
                  <a:pt x="669773" y="1299876"/>
                </a:cubicBezTo>
                <a:cubicBezTo>
                  <a:pt x="595011" y="1355948"/>
                  <a:pt x="551728" y="1377730"/>
                  <a:pt x="436814" y="1409216"/>
                </a:cubicBezTo>
                <a:cubicBezTo>
                  <a:pt x="366715" y="1419747"/>
                  <a:pt x="339521" y="1435995"/>
                  <a:pt x="226516" y="1432238"/>
                </a:cubicBezTo>
                <a:cubicBezTo>
                  <a:pt x="249490" y="1272917"/>
                  <a:pt x="238137" y="1319339"/>
                  <a:pt x="243948" y="1262890"/>
                </a:cubicBezTo>
                <a:cubicBezTo>
                  <a:pt x="291393" y="1235573"/>
                  <a:pt x="349613" y="1261891"/>
                  <a:pt x="422513" y="1222614"/>
                </a:cubicBezTo>
                <a:cubicBezTo>
                  <a:pt x="495413" y="1183337"/>
                  <a:pt x="620466" y="1110668"/>
                  <a:pt x="681350" y="1027226"/>
                </a:cubicBezTo>
                <a:cubicBezTo>
                  <a:pt x="742234" y="943784"/>
                  <a:pt x="790692" y="836980"/>
                  <a:pt x="787817" y="721961"/>
                </a:cubicBezTo>
                <a:cubicBezTo>
                  <a:pt x="793568" y="589689"/>
                  <a:pt x="747358" y="484788"/>
                  <a:pt x="681261" y="399979"/>
                </a:cubicBezTo>
                <a:cubicBezTo>
                  <a:pt x="615164" y="315170"/>
                  <a:pt x="579029" y="290479"/>
                  <a:pt x="477041" y="230255"/>
                </a:cubicBezTo>
                <a:cubicBezTo>
                  <a:pt x="392215" y="195749"/>
                  <a:pt x="278470" y="180096"/>
                  <a:pt x="206628" y="178658"/>
                </a:cubicBezTo>
                <a:cubicBezTo>
                  <a:pt x="149268" y="185362"/>
                  <a:pt x="106212" y="194922"/>
                  <a:pt x="60294" y="21019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2"/>
          <p:cNvSpPr/>
          <p:nvPr/>
        </p:nvSpPr>
        <p:spPr>
          <a:xfrm flipH="1" rot="20278200">
            <a:off x="2491200" y="4824360"/>
            <a:ext cx="792360" cy="1336320"/>
          </a:xfrm>
          <a:custGeom>
            <a:avLst/>
            <a:gdLst/>
            <a:ahLst/>
            <a:rect l="l" t="t" r="r" b="b"/>
            <a:pathLst>
              <a:path w="1258710" h="1413960">
                <a:moveTo>
                  <a:pt x="22293" y="192084"/>
                </a:moveTo>
                <a:cubicBezTo>
                  <a:pt x="7916" y="151827"/>
                  <a:pt x="14377" y="56944"/>
                  <a:pt x="0" y="16687"/>
                </a:cubicBezTo>
                <a:cubicBezTo>
                  <a:pt x="36874" y="-12403"/>
                  <a:pt x="154291" y="4381"/>
                  <a:pt x="238431" y="9138"/>
                </a:cubicBezTo>
                <a:cubicBezTo>
                  <a:pt x="322571" y="13895"/>
                  <a:pt x="416380" y="24512"/>
                  <a:pt x="504840" y="45228"/>
                </a:cubicBezTo>
                <a:cubicBezTo>
                  <a:pt x="593300" y="65944"/>
                  <a:pt x="688131" y="95880"/>
                  <a:pt x="769188" y="133434"/>
                </a:cubicBezTo>
                <a:cubicBezTo>
                  <a:pt x="850245" y="170988"/>
                  <a:pt x="922004" y="210404"/>
                  <a:pt x="991182" y="270552"/>
                </a:cubicBezTo>
                <a:cubicBezTo>
                  <a:pt x="1060360" y="330700"/>
                  <a:pt x="1141647" y="426722"/>
                  <a:pt x="1184255" y="494324"/>
                </a:cubicBezTo>
                <a:cubicBezTo>
                  <a:pt x="1226863" y="561926"/>
                  <a:pt x="1235653" y="616143"/>
                  <a:pt x="1246829" y="676166"/>
                </a:cubicBezTo>
                <a:cubicBezTo>
                  <a:pt x="1258005" y="736189"/>
                  <a:pt x="1264635" y="791063"/>
                  <a:pt x="1251313" y="854463"/>
                </a:cubicBezTo>
                <a:cubicBezTo>
                  <a:pt x="1237991" y="917863"/>
                  <a:pt x="1213193" y="983212"/>
                  <a:pt x="1166895" y="1056564"/>
                </a:cubicBezTo>
                <a:cubicBezTo>
                  <a:pt x="1094125" y="1154445"/>
                  <a:pt x="1068228" y="1200564"/>
                  <a:pt x="958208" y="1269360"/>
                </a:cubicBezTo>
                <a:cubicBezTo>
                  <a:pt x="883446" y="1325432"/>
                  <a:pt x="772119" y="1405334"/>
                  <a:pt x="677228" y="1413960"/>
                </a:cubicBezTo>
                <a:lnTo>
                  <a:pt x="445785" y="1405840"/>
                </a:lnTo>
                <a:lnTo>
                  <a:pt x="441962" y="1290270"/>
                </a:lnTo>
                <a:cubicBezTo>
                  <a:pt x="489407" y="1262953"/>
                  <a:pt x="576827" y="1250462"/>
                  <a:pt x="642664" y="1209963"/>
                </a:cubicBezTo>
                <a:cubicBezTo>
                  <a:pt x="708501" y="1169464"/>
                  <a:pt x="783140" y="1126018"/>
                  <a:pt x="836982" y="1047275"/>
                </a:cubicBezTo>
                <a:cubicBezTo>
                  <a:pt x="890824" y="968532"/>
                  <a:pt x="960983" y="848051"/>
                  <a:pt x="965717" y="737503"/>
                </a:cubicBezTo>
                <a:cubicBezTo>
                  <a:pt x="960977" y="648460"/>
                  <a:pt x="913771" y="549701"/>
                  <a:pt x="815413" y="426675"/>
                </a:cubicBezTo>
                <a:cubicBezTo>
                  <a:pt x="707557" y="346209"/>
                  <a:pt x="532128" y="265906"/>
                  <a:pt x="456954" y="244857"/>
                </a:cubicBezTo>
                <a:cubicBezTo>
                  <a:pt x="324589" y="207590"/>
                  <a:pt x="167180" y="209675"/>
                  <a:pt x="22293" y="1920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>Toshinobu Asada</dc:creator>
  <dc:description/>
  <dc:language>en-US</dc:language>
  <cp:lastModifiedBy>Asada Toshinobu</cp:lastModifiedBy>
  <dcterms:modified xsi:type="dcterms:W3CDTF">2020-09-28T16:20:48Z</dcterms:modified>
  <cp:revision>67</cp:revision>
  <dc:subject/>
  <dc:title>スライド 1</dc:title>
</cp:coreProperties>
</file>