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DE22-0203-4F80-9E0F-13B8AA82562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9BAE-4331-4D95-8542-2CD68AC9C8B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30E-C19C-46B0-B3E6-F230A8E8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8F40-4283-4C01-A3D6-1EE0562A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6FBF-06FE-400E-9F6D-E81EF29B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9F9F-69E4-4C66-BA99-C983D993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9DD-3EB6-46A4-9CCE-4235964A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08BA-2D03-46C6-97AD-D6C1EE94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CCCD-00EF-486D-B5F8-26A61E6A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A7E5-6B0B-4709-9A49-7E7C017A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1BF-58FE-49BF-A2E6-C7D46961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FC7-62B3-480B-875E-1CAA3700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F5B-29BF-40A5-A1FD-02E1D52B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D50-8292-4D95-85E6-664BD597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6769-28B8-405F-BCB3-9C0627DD74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3"/>
          <p:cNvSpPr/>
          <p:nvPr/>
        </p:nvSpPr>
        <p:spPr>
          <a:xfrm>
            <a:off x="3666960" y="3621240"/>
            <a:ext cx="500400" cy="596880"/>
          </a:xfrm>
          <a:custGeom>
            <a:avLst/>
            <a:gdLst/>
            <a:ahLst/>
            <a:rect l="l" t="t" r="r" b="b"/>
            <a:pathLst>
              <a:path w="500063" h="595313">
                <a:moveTo>
                  <a:pt x="69056" y="188119"/>
                </a:moveTo>
                <a:lnTo>
                  <a:pt x="28575" y="102394"/>
                </a:lnTo>
                <a:lnTo>
                  <a:pt x="2381" y="47625"/>
                </a:lnTo>
                <a:lnTo>
                  <a:pt x="0" y="26194"/>
                </a:lnTo>
                <a:lnTo>
                  <a:pt x="0" y="11907"/>
                </a:lnTo>
                <a:lnTo>
                  <a:pt x="9525" y="4763"/>
                </a:lnTo>
                <a:lnTo>
                  <a:pt x="28575" y="0"/>
                </a:lnTo>
                <a:lnTo>
                  <a:pt x="45244" y="4763"/>
                </a:lnTo>
                <a:lnTo>
                  <a:pt x="54769" y="14288"/>
                </a:lnTo>
                <a:lnTo>
                  <a:pt x="88106" y="45244"/>
                </a:lnTo>
                <a:lnTo>
                  <a:pt x="135731" y="80963"/>
                </a:lnTo>
                <a:lnTo>
                  <a:pt x="228600" y="150019"/>
                </a:lnTo>
                <a:lnTo>
                  <a:pt x="283369" y="183357"/>
                </a:lnTo>
                <a:lnTo>
                  <a:pt x="328613" y="204788"/>
                </a:lnTo>
                <a:lnTo>
                  <a:pt x="347663" y="214313"/>
                </a:lnTo>
                <a:lnTo>
                  <a:pt x="361950" y="228600"/>
                </a:lnTo>
                <a:lnTo>
                  <a:pt x="411956" y="283369"/>
                </a:lnTo>
                <a:lnTo>
                  <a:pt x="438150" y="319088"/>
                </a:lnTo>
                <a:lnTo>
                  <a:pt x="457200" y="357188"/>
                </a:lnTo>
                <a:lnTo>
                  <a:pt x="476250" y="402432"/>
                </a:lnTo>
                <a:lnTo>
                  <a:pt x="488156" y="442913"/>
                </a:lnTo>
                <a:lnTo>
                  <a:pt x="497681" y="483394"/>
                </a:lnTo>
                <a:lnTo>
                  <a:pt x="500063" y="519113"/>
                </a:lnTo>
                <a:lnTo>
                  <a:pt x="492919" y="554832"/>
                </a:lnTo>
                <a:lnTo>
                  <a:pt x="478631" y="576263"/>
                </a:lnTo>
                <a:lnTo>
                  <a:pt x="457200" y="588169"/>
                </a:lnTo>
                <a:lnTo>
                  <a:pt x="435769" y="592932"/>
                </a:lnTo>
                <a:lnTo>
                  <a:pt x="409575" y="595313"/>
                </a:lnTo>
                <a:lnTo>
                  <a:pt x="383381" y="588169"/>
                </a:lnTo>
                <a:lnTo>
                  <a:pt x="328613" y="547688"/>
                </a:lnTo>
                <a:lnTo>
                  <a:pt x="266700" y="495300"/>
                </a:lnTo>
                <a:lnTo>
                  <a:pt x="209550" y="428625"/>
                </a:lnTo>
                <a:lnTo>
                  <a:pt x="140494" y="323850"/>
                </a:lnTo>
                <a:lnTo>
                  <a:pt x="90488" y="235744"/>
                </a:lnTo>
                <a:lnTo>
                  <a:pt x="69056" y="188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4"/>
          <p:cNvSpPr/>
          <p:nvPr/>
        </p:nvSpPr>
        <p:spPr>
          <a:xfrm>
            <a:off x="4486320" y="3438360"/>
            <a:ext cx="550800" cy="614520"/>
          </a:xfrm>
          <a:custGeom>
            <a:avLst/>
            <a:gdLst/>
            <a:ahLst/>
            <a:rect l="l" t="t" r="r" b="b"/>
            <a:pathLst>
              <a:path w="550069" h="614363">
                <a:moveTo>
                  <a:pt x="119063" y="245269"/>
                </a:moveTo>
                <a:lnTo>
                  <a:pt x="45244" y="121444"/>
                </a:lnTo>
                <a:lnTo>
                  <a:pt x="7144" y="45244"/>
                </a:lnTo>
                <a:lnTo>
                  <a:pt x="0" y="14288"/>
                </a:lnTo>
                <a:lnTo>
                  <a:pt x="4763" y="2381"/>
                </a:lnTo>
                <a:lnTo>
                  <a:pt x="14288" y="0"/>
                </a:lnTo>
                <a:lnTo>
                  <a:pt x="33338" y="2381"/>
                </a:lnTo>
                <a:lnTo>
                  <a:pt x="54769" y="11906"/>
                </a:lnTo>
                <a:lnTo>
                  <a:pt x="83344" y="35719"/>
                </a:lnTo>
                <a:lnTo>
                  <a:pt x="166688" y="97631"/>
                </a:lnTo>
                <a:lnTo>
                  <a:pt x="345281" y="228600"/>
                </a:lnTo>
                <a:lnTo>
                  <a:pt x="435769" y="288131"/>
                </a:lnTo>
                <a:lnTo>
                  <a:pt x="461963" y="307181"/>
                </a:lnTo>
                <a:lnTo>
                  <a:pt x="473869" y="321469"/>
                </a:lnTo>
                <a:lnTo>
                  <a:pt x="507206" y="376238"/>
                </a:lnTo>
                <a:lnTo>
                  <a:pt x="528638" y="414338"/>
                </a:lnTo>
                <a:lnTo>
                  <a:pt x="542925" y="454819"/>
                </a:lnTo>
                <a:lnTo>
                  <a:pt x="547688" y="476250"/>
                </a:lnTo>
                <a:lnTo>
                  <a:pt x="550069" y="509588"/>
                </a:lnTo>
                <a:lnTo>
                  <a:pt x="545306" y="552450"/>
                </a:lnTo>
                <a:lnTo>
                  <a:pt x="526256" y="590550"/>
                </a:lnTo>
                <a:lnTo>
                  <a:pt x="507206" y="604838"/>
                </a:lnTo>
                <a:lnTo>
                  <a:pt x="473869" y="614363"/>
                </a:lnTo>
                <a:lnTo>
                  <a:pt x="440531" y="611981"/>
                </a:lnTo>
                <a:lnTo>
                  <a:pt x="397669" y="595313"/>
                </a:lnTo>
                <a:lnTo>
                  <a:pt x="340519" y="547688"/>
                </a:lnTo>
                <a:lnTo>
                  <a:pt x="245269" y="433388"/>
                </a:lnTo>
                <a:lnTo>
                  <a:pt x="176213" y="330994"/>
                </a:lnTo>
                <a:lnTo>
                  <a:pt x="119063" y="2452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7"/>
          <p:cNvSpPr/>
          <p:nvPr/>
        </p:nvSpPr>
        <p:spPr>
          <a:xfrm rot="19800000">
            <a:off x="3746160" y="3825360"/>
            <a:ext cx="2797200" cy="1443240"/>
          </a:xfrm>
          <a:custGeom>
            <a:avLst/>
            <a:gdLst/>
            <a:ahLst/>
            <a:rect l="l" t="t" r="r" b="b"/>
            <a:pathLst>
              <a:path w="2797969" h="1443037">
                <a:moveTo>
                  <a:pt x="1481137" y="921543"/>
                </a:moveTo>
                <a:lnTo>
                  <a:pt x="1590675" y="869156"/>
                </a:lnTo>
                <a:lnTo>
                  <a:pt x="1719262" y="800100"/>
                </a:lnTo>
                <a:lnTo>
                  <a:pt x="1833562" y="738187"/>
                </a:lnTo>
                <a:lnTo>
                  <a:pt x="1959769" y="666750"/>
                </a:lnTo>
                <a:lnTo>
                  <a:pt x="2095500" y="583406"/>
                </a:lnTo>
                <a:lnTo>
                  <a:pt x="2219325" y="500062"/>
                </a:lnTo>
                <a:lnTo>
                  <a:pt x="2343150" y="414337"/>
                </a:lnTo>
                <a:lnTo>
                  <a:pt x="2424112" y="350043"/>
                </a:lnTo>
                <a:lnTo>
                  <a:pt x="2502694" y="283368"/>
                </a:lnTo>
                <a:lnTo>
                  <a:pt x="2566987" y="216693"/>
                </a:lnTo>
                <a:lnTo>
                  <a:pt x="2578894" y="195262"/>
                </a:lnTo>
                <a:lnTo>
                  <a:pt x="2588419" y="169068"/>
                </a:lnTo>
                <a:lnTo>
                  <a:pt x="2590800" y="142875"/>
                </a:lnTo>
                <a:lnTo>
                  <a:pt x="2581275" y="85725"/>
                </a:lnTo>
                <a:lnTo>
                  <a:pt x="2562225" y="54768"/>
                </a:lnTo>
                <a:lnTo>
                  <a:pt x="2547937" y="35718"/>
                </a:lnTo>
                <a:lnTo>
                  <a:pt x="2543175" y="14287"/>
                </a:lnTo>
                <a:cubicBezTo>
                  <a:pt x="2553196" y="1761"/>
                  <a:pt x="2552700" y="7463"/>
                  <a:pt x="2552700" y="0"/>
                </a:cubicBezTo>
                <a:lnTo>
                  <a:pt x="2569369" y="0"/>
                </a:lnTo>
                <a:lnTo>
                  <a:pt x="2595562" y="9525"/>
                </a:lnTo>
                <a:lnTo>
                  <a:pt x="2631281" y="35718"/>
                </a:lnTo>
                <a:lnTo>
                  <a:pt x="2674144" y="76200"/>
                </a:lnTo>
                <a:lnTo>
                  <a:pt x="2709862" y="109537"/>
                </a:lnTo>
                <a:lnTo>
                  <a:pt x="2728912" y="135731"/>
                </a:lnTo>
                <a:lnTo>
                  <a:pt x="2755106" y="180975"/>
                </a:lnTo>
                <a:lnTo>
                  <a:pt x="2767012" y="214312"/>
                </a:lnTo>
                <a:lnTo>
                  <a:pt x="2778919" y="252412"/>
                </a:lnTo>
                <a:lnTo>
                  <a:pt x="2786062" y="297656"/>
                </a:lnTo>
                <a:lnTo>
                  <a:pt x="2793206" y="350043"/>
                </a:lnTo>
                <a:lnTo>
                  <a:pt x="2797969" y="426243"/>
                </a:lnTo>
                <a:lnTo>
                  <a:pt x="2797969" y="457200"/>
                </a:lnTo>
                <a:lnTo>
                  <a:pt x="2793206" y="476250"/>
                </a:lnTo>
                <a:cubicBezTo>
                  <a:pt x="2780705" y="496252"/>
                  <a:pt x="2786595" y="490005"/>
                  <a:pt x="2778919" y="497681"/>
                </a:cubicBezTo>
                <a:lnTo>
                  <a:pt x="2757487" y="507206"/>
                </a:lnTo>
                <a:lnTo>
                  <a:pt x="2717006" y="511968"/>
                </a:lnTo>
                <a:lnTo>
                  <a:pt x="2681287" y="509587"/>
                </a:lnTo>
                <a:lnTo>
                  <a:pt x="2659856" y="523875"/>
                </a:lnTo>
                <a:lnTo>
                  <a:pt x="2552700" y="595312"/>
                </a:lnTo>
                <a:lnTo>
                  <a:pt x="2407444" y="683418"/>
                </a:lnTo>
                <a:lnTo>
                  <a:pt x="2150269" y="828675"/>
                </a:lnTo>
                <a:lnTo>
                  <a:pt x="1950244" y="931068"/>
                </a:lnTo>
                <a:lnTo>
                  <a:pt x="1743075" y="1023937"/>
                </a:lnTo>
                <a:lnTo>
                  <a:pt x="1445419" y="1143000"/>
                </a:lnTo>
                <a:lnTo>
                  <a:pt x="1216819" y="1216818"/>
                </a:lnTo>
                <a:lnTo>
                  <a:pt x="945356" y="1293018"/>
                </a:lnTo>
                <a:lnTo>
                  <a:pt x="778669" y="1333500"/>
                </a:lnTo>
                <a:lnTo>
                  <a:pt x="531019" y="1383506"/>
                </a:lnTo>
                <a:lnTo>
                  <a:pt x="288131" y="1416843"/>
                </a:lnTo>
                <a:lnTo>
                  <a:pt x="76200" y="1440656"/>
                </a:lnTo>
                <a:lnTo>
                  <a:pt x="45244" y="1443037"/>
                </a:lnTo>
                <a:lnTo>
                  <a:pt x="26194" y="1435893"/>
                </a:lnTo>
                <a:lnTo>
                  <a:pt x="9525" y="1426368"/>
                </a:lnTo>
                <a:lnTo>
                  <a:pt x="0" y="1412081"/>
                </a:lnTo>
                <a:lnTo>
                  <a:pt x="0" y="1400175"/>
                </a:lnTo>
                <a:lnTo>
                  <a:pt x="14287" y="1373981"/>
                </a:lnTo>
                <a:lnTo>
                  <a:pt x="30956" y="1347787"/>
                </a:lnTo>
                <a:lnTo>
                  <a:pt x="57150" y="1343025"/>
                </a:lnTo>
                <a:lnTo>
                  <a:pt x="180975" y="1323975"/>
                </a:lnTo>
                <a:lnTo>
                  <a:pt x="366712" y="1290637"/>
                </a:lnTo>
                <a:lnTo>
                  <a:pt x="611981" y="1231106"/>
                </a:lnTo>
                <a:lnTo>
                  <a:pt x="892969" y="1150143"/>
                </a:lnTo>
                <a:lnTo>
                  <a:pt x="1169194" y="1052512"/>
                </a:lnTo>
                <a:lnTo>
                  <a:pt x="1350169" y="981075"/>
                </a:lnTo>
                <a:lnTo>
                  <a:pt x="1481137" y="9215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11:05:47Z</dcterms:modified>
  <cp:revision>152</cp:revision>
  <dc:subject/>
  <dc:title>スライド 1</dc:title>
</cp:coreProperties>
</file>