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D258-84A3-495E-86D4-B6A5B00E56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79B7-AB66-4DAA-967B-6FC01ABC92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B0E-ED3C-4E03-8B0A-DA39E8F3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2A0-08AE-4944-9C05-9AC22A7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A17-BF1B-4986-86FB-9DD37EAA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8C9-1CE4-4679-A91A-2A427AAE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9CE-C40A-4448-92A9-A519C43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795-BE00-4EAD-B954-0106AB3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317-FCB2-4B9B-8E03-7BF63E86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9DE-A050-4EE2-B81A-158A6E28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441-DDD2-4E8E-BBE4-6963AFCB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5D3-F6B0-4011-9FD9-0C8728E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001-D50F-418B-BFA7-31D01C4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C22-A474-4BC0-BDEB-2771C7E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CED-5F2F-4879-9239-B9E6C8746E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5056200" y="3870360"/>
            <a:ext cx="615960" cy="1152360"/>
          </a:xfrm>
          <a:custGeom>
            <a:avLst/>
            <a:gdLst/>
            <a:ahLst/>
            <a:rect l="l" t="t" r="r" b="b"/>
            <a:pathLst>
              <a:path w="616744" h="1152525">
                <a:moveTo>
                  <a:pt x="311944" y="21432"/>
                </a:moveTo>
                <a:lnTo>
                  <a:pt x="616744" y="0"/>
                </a:lnTo>
                <a:lnTo>
                  <a:pt x="604837" y="14288"/>
                </a:lnTo>
                <a:lnTo>
                  <a:pt x="461962" y="390525"/>
                </a:lnTo>
                <a:lnTo>
                  <a:pt x="290512" y="800100"/>
                </a:lnTo>
                <a:lnTo>
                  <a:pt x="159544" y="1102519"/>
                </a:lnTo>
                <a:lnTo>
                  <a:pt x="147637" y="1135857"/>
                </a:lnTo>
                <a:lnTo>
                  <a:pt x="121444" y="1147763"/>
                </a:lnTo>
                <a:lnTo>
                  <a:pt x="19050" y="1152525"/>
                </a:lnTo>
                <a:lnTo>
                  <a:pt x="4762" y="1150144"/>
                </a:lnTo>
                <a:lnTo>
                  <a:pt x="0" y="1138238"/>
                </a:lnTo>
                <a:lnTo>
                  <a:pt x="40481" y="988219"/>
                </a:lnTo>
                <a:lnTo>
                  <a:pt x="147637" y="621507"/>
                </a:lnTo>
                <a:lnTo>
                  <a:pt x="290512" y="114300"/>
                </a:lnTo>
                <a:lnTo>
                  <a:pt x="311944" y="35719"/>
                </a:lnTo>
                <a:lnTo>
                  <a:pt x="311944" y="214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3949560" y="3606840"/>
            <a:ext cx="1809720" cy="469800"/>
          </a:xfrm>
          <a:custGeom>
            <a:avLst/>
            <a:gdLst/>
            <a:ahLst/>
            <a:rect l="l" t="t" r="r" b="b"/>
            <a:pathLst>
              <a:path w="1809750" h="469106">
                <a:moveTo>
                  <a:pt x="678656" y="192881"/>
                </a:moveTo>
                <a:lnTo>
                  <a:pt x="1076325" y="116681"/>
                </a:lnTo>
                <a:lnTo>
                  <a:pt x="1290637" y="76200"/>
                </a:lnTo>
                <a:lnTo>
                  <a:pt x="1335881" y="64294"/>
                </a:lnTo>
                <a:lnTo>
                  <a:pt x="1381125" y="35719"/>
                </a:lnTo>
                <a:lnTo>
                  <a:pt x="1438275" y="7144"/>
                </a:lnTo>
                <a:lnTo>
                  <a:pt x="1462087" y="0"/>
                </a:lnTo>
                <a:lnTo>
                  <a:pt x="1493044" y="11906"/>
                </a:lnTo>
                <a:lnTo>
                  <a:pt x="1616869" y="73819"/>
                </a:lnTo>
                <a:lnTo>
                  <a:pt x="1731169" y="121444"/>
                </a:lnTo>
                <a:lnTo>
                  <a:pt x="1788319" y="152400"/>
                </a:lnTo>
                <a:lnTo>
                  <a:pt x="1807369" y="176212"/>
                </a:lnTo>
                <a:lnTo>
                  <a:pt x="1809750" y="197644"/>
                </a:lnTo>
                <a:lnTo>
                  <a:pt x="1804987" y="211931"/>
                </a:lnTo>
                <a:lnTo>
                  <a:pt x="1783556" y="230981"/>
                </a:lnTo>
                <a:lnTo>
                  <a:pt x="1747837" y="247650"/>
                </a:lnTo>
                <a:lnTo>
                  <a:pt x="1721644" y="261937"/>
                </a:lnTo>
                <a:lnTo>
                  <a:pt x="1709737" y="276225"/>
                </a:lnTo>
                <a:lnTo>
                  <a:pt x="1416844" y="297656"/>
                </a:lnTo>
                <a:lnTo>
                  <a:pt x="1416844" y="283369"/>
                </a:lnTo>
                <a:lnTo>
                  <a:pt x="1414462" y="264319"/>
                </a:lnTo>
                <a:lnTo>
                  <a:pt x="1404937" y="245269"/>
                </a:lnTo>
                <a:lnTo>
                  <a:pt x="1381125" y="230981"/>
                </a:lnTo>
                <a:lnTo>
                  <a:pt x="1359694" y="221456"/>
                </a:lnTo>
                <a:lnTo>
                  <a:pt x="1323975" y="228600"/>
                </a:lnTo>
                <a:lnTo>
                  <a:pt x="907256" y="319087"/>
                </a:lnTo>
                <a:lnTo>
                  <a:pt x="521494" y="402431"/>
                </a:lnTo>
                <a:lnTo>
                  <a:pt x="428625" y="426244"/>
                </a:lnTo>
                <a:lnTo>
                  <a:pt x="357187" y="450056"/>
                </a:lnTo>
                <a:lnTo>
                  <a:pt x="307181" y="469106"/>
                </a:lnTo>
                <a:lnTo>
                  <a:pt x="295275" y="469106"/>
                </a:lnTo>
                <a:lnTo>
                  <a:pt x="230981" y="452437"/>
                </a:lnTo>
                <a:lnTo>
                  <a:pt x="102394" y="366712"/>
                </a:lnTo>
                <a:lnTo>
                  <a:pt x="40481" y="316706"/>
                </a:lnTo>
                <a:lnTo>
                  <a:pt x="9525" y="292894"/>
                </a:lnTo>
                <a:lnTo>
                  <a:pt x="0" y="273844"/>
                </a:lnTo>
                <a:lnTo>
                  <a:pt x="0" y="259556"/>
                </a:lnTo>
                <a:lnTo>
                  <a:pt x="2381" y="250031"/>
                </a:lnTo>
                <a:lnTo>
                  <a:pt x="16669" y="247650"/>
                </a:lnTo>
                <a:lnTo>
                  <a:pt x="38100" y="247650"/>
                </a:lnTo>
                <a:cubicBezTo>
                  <a:pt x="76958" y="259793"/>
                  <a:pt x="62894" y="259556"/>
                  <a:pt x="78581" y="259556"/>
                </a:cubicBezTo>
                <a:lnTo>
                  <a:pt x="161925" y="269081"/>
                </a:lnTo>
                <a:lnTo>
                  <a:pt x="269081" y="264319"/>
                </a:lnTo>
                <a:lnTo>
                  <a:pt x="478631" y="226219"/>
                </a:lnTo>
                <a:lnTo>
                  <a:pt x="678656" y="1928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 rot="19800000">
            <a:off x="3525840" y="4528800"/>
            <a:ext cx="2733840" cy="1353960"/>
          </a:xfrm>
          <a:custGeom>
            <a:avLst/>
            <a:gdLst/>
            <a:ahLst/>
            <a:rect l="l" t="t" r="r" b="b"/>
            <a:pathLst>
              <a:path w="2733675" h="1354931">
                <a:moveTo>
                  <a:pt x="842962" y="473869"/>
                </a:moveTo>
                <a:lnTo>
                  <a:pt x="1112043" y="559594"/>
                </a:lnTo>
                <a:lnTo>
                  <a:pt x="1335881" y="645319"/>
                </a:lnTo>
                <a:lnTo>
                  <a:pt x="1545431" y="735806"/>
                </a:lnTo>
                <a:lnTo>
                  <a:pt x="1769268" y="835819"/>
                </a:lnTo>
                <a:lnTo>
                  <a:pt x="2026443" y="966787"/>
                </a:lnTo>
                <a:lnTo>
                  <a:pt x="2226468" y="1073944"/>
                </a:lnTo>
                <a:lnTo>
                  <a:pt x="2402681" y="1183481"/>
                </a:lnTo>
                <a:lnTo>
                  <a:pt x="2519362" y="1262062"/>
                </a:lnTo>
                <a:lnTo>
                  <a:pt x="2593181" y="1319212"/>
                </a:lnTo>
                <a:lnTo>
                  <a:pt x="2621756" y="1335881"/>
                </a:lnTo>
                <a:lnTo>
                  <a:pt x="2647950" y="1347787"/>
                </a:lnTo>
                <a:lnTo>
                  <a:pt x="2674143" y="1354931"/>
                </a:lnTo>
                <a:lnTo>
                  <a:pt x="2702718" y="1354931"/>
                </a:lnTo>
                <a:cubicBezTo>
                  <a:pt x="2717666" y="1344966"/>
                  <a:pt x="2711282" y="1345406"/>
                  <a:pt x="2719387" y="1345406"/>
                </a:cubicBezTo>
                <a:lnTo>
                  <a:pt x="2731293" y="1312069"/>
                </a:lnTo>
                <a:lnTo>
                  <a:pt x="2733675" y="1271587"/>
                </a:lnTo>
                <a:cubicBezTo>
                  <a:pt x="2723945" y="1235102"/>
                  <a:pt x="2724150" y="1248191"/>
                  <a:pt x="2724150" y="1233487"/>
                </a:cubicBezTo>
                <a:lnTo>
                  <a:pt x="2676525" y="1157287"/>
                </a:lnTo>
                <a:lnTo>
                  <a:pt x="2550318" y="978694"/>
                </a:lnTo>
                <a:lnTo>
                  <a:pt x="2490787" y="926306"/>
                </a:lnTo>
                <a:lnTo>
                  <a:pt x="2455068" y="914400"/>
                </a:lnTo>
                <a:lnTo>
                  <a:pt x="2328862" y="878681"/>
                </a:lnTo>
                <a:lnTo>
                  <a:pt x="2176462" y="826294"/>
                </a:lnTo>
                <a:lnTo>
                  <a:pt x="1943100" y="719137"/>
                </a:lnTo>
                <a:lnTo>
                  <a:pt x="1735931" y="626269"/>
                </a:lnTo>
                <a:lnTo>
                  <a:pt x="1538287" y="550069"/>
                </a:lnTo>
                <a:lnTo>
                  <a:pt x="1126331" y="404812"/>
                </a:lnTo>
                <a:lnTo>
                  <a:pt x="573881" y="216694"/>
                </a:lnTo>
                <a:lnTo>
                  <a:pt x="385762" y="152400"/>
                </a:lnTo>
                <a:lnTo>
                  <a:pt x="292893" y="121444"/>
                </a:lnTo>
                <a:lnTo>
                  <a:pt x="130968" y="47625"/>
                </a:lnTo>
                <a:lnTo>
                  <a:pt x="28575" y="2381"/>
                </a:lnTo>
                <a:lnTo>
                  <a:pt x="11906" y="0"/>
                </a:lnTo>
                <a:lnTo>
                  <a:pt x="0" y="9525"/>
                </a:lnTo>
                <a:lnTo>
                  <a:pt x="2381" y="28575"/>
                </a:lnTo>
                <a:lnTo>
                  <a:pt x="4762" y="50006"/>
                </a:lnTo>
                <a:lnTo>
                  <a:pt x="11906" y="66675"/>
                </a:lnTo>
                <a:lnTo>
                  <a:pt x="52387" y="104775"/>
                </a:lnTo>
                <a:lnTo>
                  <a:pt x="176212" y="240506"/>
                </a:lnTo>
                <a:lnTo>
                  <a:pt x="257175" y="328612"/>
                </a:lnTo>
                <a:lnTo>
                  <a:pt x="288131" y="357187"/>
                </a:lnTo>
                <a:lnTo>
                  <a:pt x="316706" y="369094"/>
                </a:lnTo>
                <a:lnTo>
                  <a:pt x="354806" y="376237"/>
                </a:lnTo>
                <a:lnTo>
                  <a:pt x="400050" y="378619"/>
                </a:lnTo>
                <a:lnTo>
                  <a:pt x="440531" y="381000"/>
                </a:lnTo>
                <a:lnTo>
                  <a:pt x="561975" y="402431"/>
                </a:lnTo>
                <a:lnTo>
                  <a:pt x="726281" y="440531"/>
                </a:lnTo>
                <a:lnTo>
                  <a:pt x="842962" y="4738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5:02Z</dcterms:modified>
  <cp:revision>149</cp:revision>
  <dc:subject/>
  <dc:title>スライド 1</dc:title>
</cp:coreProperties>
</file>